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179-0E88-4242-905B-D12ADE16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959-4090-48CD-9FFB-F0C68AB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DBC-D22F-4291-96F4-43ADD61C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9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5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9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63A-D454-4882-BD10-6D210CCB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E9C-A8A9-4CCB-B0E9-3D6AB51A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275-DB73-47DE-A17A-075390F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F46-8E0D-412C-8E89-28B402A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564-9997-4204-A1B3-B23BAA0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5960"/>
            <a:ext cx="96220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30C-75F3-4A42-8CFA-CDF47E98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BE9-87A5-4F43-94AC-DD66CFF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390-5EB8-4AC7-8EC4-AD38458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979-48F5-4137-8461-2013D4C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1640" cy="14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0000"/>
          </a:bodyPr>
          <a:p>
            <a:pPr marL="351360" indent="-351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294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5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340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968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9680"/>
            <a:ext cx="33861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0800" y="6889680"/>
            <a:ext cx="24973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79786F5B-FCF4-4F37-AF6D-4AE4425B0883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1763280"/>
            <a:ext cx="9088560" cy="14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5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Бурга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65280" y="3492360"/>
          <a:ext cx="9288360" cy="3337200"/>
        </p:xfrm>
        <a:graphic>
          <a:graphicData uri="http://schemas.openxmlformats.org/drawingml/2006/table">
            <a:tbl>
              <a:tblPr/>
              <a:tblGrid>
                <a:gridCol w="6119640"/>
                <a:gridCol w="316872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31 181  116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01 344 122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9 836 994 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за 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6.11.201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„</a:t>
                      </a: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Бургасбус“ ЕО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402920"/>
            <a:ext cx="102153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6: Електронна билетна систем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0200" y="2340000"/>
            <a:ext cx="9625320" cy="4464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343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ъвеждането на интегрирана електронна билетна система ще предложи следните предим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о-лесно прехвърляне на пътниците от една автобусна линия на друга без допълнително заплащ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 случай на повече транспортни оператори, обслужващи Бургас, пътниците ще могат да използват същия билет за услуга от различни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ъществуващата система е много трудоемка за управление и  ниско ефективна, като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50%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т  пътниците пътуват с единични билети, което води до големи разходи за обслуж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бщината може лесно да въведе промоционални тарифи, например пътуване на по-ниски цени вечер или в нед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 бъдеще използването на електронна пътническа карта може да се комбинира с други услуги, като заплащане на парк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4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Информация за пътниците в реално врем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0200" y="3089160"/>
            <a:ext cx="9625320" cy="3570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2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Оборудване на всички спирки в гр.Бургас с дисплеи за информация в реално време за пътниците, показващ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номера на  ли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ната на спирките по маршр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очакваното време за пристигане на следващото превозно сре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Оборудване в превозните средства, осигуряващо информация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номера на съответната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ната на спирките по маршр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оставащото време за пристигане до следваща спи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то на следващата спи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0560" y="12585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Система за управление и контрол на обществения тран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2663640"/>
            <a:ext cx="9624960" cy="450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Централната система за управление на обществения транспорт ще служи като събирателен център съсредоточаващ се върху изискванията и обслужването на всички оперативни елементи и клиентите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истемата включва следните еле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Централна система за контрол на т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Бордова контролна система на автобус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Интегриране на всички модули, свързани с контрола и управлението на обществения транспо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информация в реално в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контрола на поддръж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генериране на да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управление на авт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контрол и надзор на обслуж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приоритет при светофа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0560" y="133164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:  Система за видеонаблюдение (</a:t>
            </a:r>
            <a:r>
              <a:rPr b="1" i="1" lang="en-GB" sz="3500" spc="-1" strike="noStrike" u="sng">
                <a:solidFill>
                  <a:srgbClr val="000000"/>
                </a:solidFill>
                <a:uFillTx/>
                <a:latin typeface="Sylfaen"/>
              </a:rPr>
              <a:t>CCTV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)</a:t>
            </a:r>
            <a:r>
              <a:rPr b="1" i="1" lang="bg-BG" sz="36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20200" y="2916000"/>
            <a:ext cx="96253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сталиране на системата  за видеонаблюдение (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CCTV)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по главните  кръстовища по трасето на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линията и допълнителните линии на обществения транспорт, с цел подобряване на възможностите за управление на обществения транспорт чрез мониторинг в реално време. Компонентът включ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сталиране на 40 видеокамери по кръсто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оставка и монтаж на централна контролна система с възможности за  интегриране в системата за контрол и управление на обществения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10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Р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еконструкция и модернизация на автобусно депо и работилница, дизел и   метан станция</a:t>
            </a:r>
            <a:r>
              <a:rPr b="1" i="1" lang="bg-BG" sz="28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2663640"/>
            <a:ext cx="9624960" cy="428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1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редвиждат се дейности по реконструкция и модернизация на автобусно депо и съоръжения за ремонт и поддръжка с цел осигуряване на подходящи условия за обслужване на закупения по проекта автобусен парк. Предвидените строително - ремонтни работи по компонента включв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Реконструкция и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модернизация на работилница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за ремонт и поддръжка на новите автобуси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 включително съществуващите 10 метанови автоб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Обособяване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на зона за преглед на автобусите, съоръжения за миене и почистване, депо за употребявани гу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еустройство на съществуваща дизел станция и изграждане на дизел и метан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еустройство на съществуващи подходи и паркин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Ремонт и обновяване на зоните около реконструираните работилница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дизел и метан стан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27080" y="1403280"/>
            <a:ext cx="1091880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Реконструкция на автобусни терминал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93640" y="277128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Автобусен терминал  близо до ж.п.гарата (автогара Юг)</a:t>
            </a:r>
            <a:r>
              <a:rPr b="1" lang="en-US" sz="2000" spc="-1" strike="noStrike">
                <a:solidFill>
                  <a:srgbClr val="0a4600"/>
                </a:solidFill>
                <a:latin typeface="Sylfaen"/>
              </a:rPr>
              <a:t>, </a:t>
            </a: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чиято реконструкция включ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обновяване и реконструкция на съществуващата с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промяна в цялостния план на съществуващата автогара - обособяването на 8 спирки, предлагащи информация в реално време за пътниците, ограничаване на  местата за паркиране на изчакващите автобуси.</a:t>
            </a:r>
            <a:r>
              <a:rPr b="0" lang="bg-BG" sz="16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Автобусен терминал в ж.к. Меден Рудник, включващ реконструкция на следните съоръ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сграда за оперативни ну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обръщало за автобу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буферен паркинг за автоб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спирка за пътниц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Изграждане на мрежа от велосипедни маршрут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9280" y="3131640"/>
            <a:ext cx="5256360" cy="3708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Компонентът предвижда изграждането на единна система от велосипедни алеи, които ще обвързват по-отдалечените жилищни квартали с централната градска част и различните функционални зони на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бща дължина от 20,2 км велоалеи, представени с червено на схем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MadzhirskiV\Desktop\EasyCapture2.jpg"/>
          <p:cNvPicPr/>
          <p:nvPr/>
        </p:nvPicPr>
        <p:blipFill>
          <a:blip r:embed="rId3"/>
          <a:stretch/>
        </p:blipFill>
        <p:spPr>
          <a:xfrm>
            <a:off x="6354720" y="2771640"/>
            <a:ext cx="3141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0560" y="1619280"/>
            <a:ext cx="962208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3: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 Безопасни пешеходни съоръжения за пресича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2842920"/>
            <a:ext cx="9624960" cy="3916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зграждане на 4 пешеходни надлеза, с оглед подобряване достъпа до маршрута на бързата автобусна линия и гарантиране  безопасно и безконфликтно придвижване на пешеходците на следните ме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Бул. "Димитър Димов",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ри Гимназия с преподаване на английски език "Гео Милев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Ул."Стефан Стамболов"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, в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близост до МБАЛ – Бург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Ул."Стефан Стамболов"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, в близост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 до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хотел «Мира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градните съоръжения на фирма Чикън груп по пътя за кв. Ветр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560" y="133164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Предпроектни проучвания за надграждане на системата за бърз автобусен тран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0200" y="2916000"/>
            <a:ext cx="98665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роектът предвижда изготвянето на предпроектни проучвания за възможно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надграждане на системата за бърз автобусен превоз. Заложени са следните проуч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надграждане на </a:t>
            </a:r>
            <a:r>
              <a:rPr b="0" lang="en-GB" sz="22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истемата след успешното й въвежд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изграждане на буферни паркинги в ключови зони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автобусен терминал за междуселищен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интегрирана система за управление на траф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560" y="148248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211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625320" indent="-62532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вишаване на привлекателността и подобряване на достъпа до транспортната услуг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Стимулиране метрополисн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функции на гра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ъздаване на условия за по-голяма мобилност на членовете на  местната общно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венция и н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амаляване на задръстванията и повишаване на капацитета и скоростта на системата за обществен транспор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качеството на околната среда чрез намаляване на емиси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на безопасността на транспорта и придвижването в градската сре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3640" y="1187280"/>
            <a:ext cx="9622080" cy="93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123640"/>
            <a:ext cx="10152000" cy="4751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Доставка на нови нискоемисионни автобуси</a:t>
            </a:r>
            <a:r>
              <a:rPr b="1" lang="ru-RU" sz="24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система за бърз автобусен транспорт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 (</a:t>
            </a:r>
            <a:r>
              <a:rPr b="0" lang="en-GB" sz="2400" spc="-1" strike="noStrike">
                <a:solidFill>
                  <a:srgbClr val="0a4600"/>
                </a:solidFill>
                <a:latin typeface="Sylfaen"/>
              </a:rPr>
              <a:t>BRT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приоритетна за автобусите светофар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нова оптимизирана и атрактивна автобусна маршрутна мр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Централна автобусна спирка с атрактивен диз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лектронна билет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Информация за пътниците в реално време по спирките и в превозните средства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3640" y="1403280"/>
            <a:ext cx="9622080" cy="11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360" y="2771280"/>
            <a:ext cx="9624960" cy="3313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9000"/>
          </a:bodyPr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Система за управление и контрол на обществения транспо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Система за видеонаблюдение (</a:t>
            </a:r>
            <a:r>
              <a:rPr b="0" lang="en-US" sz="2400" spc="-1" strike="noStrike">
                <a:solidFill>
                  <a:srgbClr val="0a4600"/>
                </a:solidFill>
                <a:latin typeface="Sylfaen"/>
              </a:rPr>
              <a:t>CCTV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10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1" lang="ru-RU" sz="2400" spc="-1" strike="noStrike">
                <a:solidFill>
                  <a:srgbClr val="0a4600"/>
                </a:solidFill>
                <a:latin typeface="Sylfaen"/>
              </a:rPr>
              <a:t>Р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конструкция и модернизация на автобусно депо и работилница, дизел и   метан ст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Реконструкция на автобусни терминали</a:t>
            </a:r>
            <a:r>
              <a:rPr b="1" lang="bg-BG" sz="24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Изграждане на мрежа от велосипедни маршр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Безопасни пешеходни съоръжения за пресич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560" y="161892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Доставка на нови  нискоемисионни авто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200" y="3132000"/>
            <a:ext cx="9625320" cy="360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Закупуване на 28 съчленени дизелови автобуса, които да обслужват </a:t>
            </a:r>
            <a:r>
              <a:rPr b="0" lang="en-GB" sz="24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линията, отговарящи на европейските стандарти за емисии </a:t>
            </a:r>
            <a:r>
              <a:rPr b="0" lang="en-GB" sz="2400" spc="-1" strike="noStrike">
                <a:solidFill>
                  <a:srgbClr val="000000"/>
                </a:solidFill>
                <a:latin typeface="Sylfaen"/>
              </a:rPr>
              <a:t>Euro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 5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ли по-вис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Закупуване на 39 метанови автобуса, с които да се осигури модерен автопарк за обслужване на останалата част от мрежата на обществения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Въведените в експлоатация автобуси ще бъдат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искобордови, с цел осигуряване достъпност за хора с увреж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Въвеждане на система за бърз автобусен транспорт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 (</a:t>
            </a:r>
            <a:r>
              <a:rPr b="1" i="1" lang="en-GB" sz="3500" spc="-1" strike="noStrike" u="sng">
                <a:solidFill>
                  <a:srgbClr val="000000"/>
                </a:solidFill>
                <a:uFillTx/>
                <a:latin typeface="Sylfaen"/>
              </a:rPr>
              <a:t>BRT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BRT map"/>
          <p:cNvPicPr/>
          <p:nvPr/>
        </p:nvPicPr>
        <p:blipFill>
          <a:blip r:embed="rId1"/>
          <a:stretch/>
        </p:blipFill>
        <p:spPr>
          <a:xfrm>
            <a:off x="5273640" y="2484360"/>
            <a:ext cx="5029200" cy="4815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88960" y="336708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ща дължина на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BRT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коридора – 15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Коридорът включва изграждане сегрегирани автобусни ленти и платна по маршрута, означен с червено на схе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0560" y="161892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ъвеждане на приоритетна за автобусите светофарна систе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0200" y="3132000"/>
            <a:ext cx="9625320" cy="4104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орудване на общо 20 светофарно регулирани кръстовища с контролери за осигуряване на приоритет  на средствата за обществен транспор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 всички 16 кръстовища по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BRT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 трасе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 4 допълнителни  кръстовища по маршрута на захранващите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автобусни линии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вестициите ще доведат до намаляване на времето за изчакване на автобусите, избягване на задръствания, предвидимост и съкращаване на необходимото за едно пътуване време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Въвеждане на нова оптимизирана и атрактивна автобусна маршрутна мреж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916000"/>
            <a:ext cx="9624960" cy="4033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ационализиране на мрашрутната мрежа, чрез редуциране на броя автобусни линии от 19 на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4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автобусни линии в основната част на гр. Бургас – 1 по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BRT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коридора и 3 захранващи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6 линии, обслужващи отдалечените квар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Въвеждане на значително по-голяма честота на обслужване по 10-т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6-те линии до крайните квартали ще бъдат с краен терминал  автогара Юг (до ж.п. гарата), което ще намали степента на прекачв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169200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Централна автобусна спирка с атрактивен дизай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0200" y="3131640"/>
            <a:ext cx="9625320" cy="3627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50720" indent="-45072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Спирка е ключов момент в интегрирането на системата за бърз автобусен транспорт в градоустройствената схема на 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лементи на спирката ще бъд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фис за продажба на бил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тоале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авилион за вестници и списания.</a:t>
            </a: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42Z</dcterms:modified>
  <cp:revision>215</cp:revision>
  <dc:subject/>
  <dc:title>Burgas IUTP</dc:title>
</cp:coreProperties>
</file>