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4E6-BBD0-4B4F-8DC3-9C0213F4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80312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11D-D99B-449B-9C48-E750D48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5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72A8-9373-481F-804E-E334A1FF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1960" y="266364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756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1960" y="4803120"/>
            <a:ext cx="309888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11C-3EBC-46B0-BBAB-BFBB180F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70D-B780-470B-8CFC-31EF2ED7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91E-7738-4150-9D0E-65ACC7DF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DE8-65C1-4140-9989-59EAE8E4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346-F957-45BB-BA7C-F758195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7560" y="1245960"/>
            <a:ext cx="96220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65C-D36B-4E07-8A16-8FD44D42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8090-2730-4014-9095-0C057C96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5520" y="480312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9CA-9829-434E-A9E7-69883406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5520" y="2663640"/>
            <a:ext cx="469692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803120"/>
            <a:ext cx="9624960" cy="195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668-A99D-4EAA-87B5-695E69E5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5-te grada"/>
          <p:cNvPicPr/>
          <p:nvPr/>
        </p:nvPicPr>
        <p:blipFill>
          <a:blip r:embed="rId2"/>
          <a:stretch/>
        </p:blipFill>
        <p:spPr>
          <a:xfrm>
            <a:off x="0" y="0"/>
            <a:ext cx="10691640" cy="144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266364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0000"/>
          </a:bodyPr>
          <a:p>
            <a:pPr marL="351360" indent="-351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62840" indent="-2944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72880" indent="-235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41600" indent="-23400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09960" indent="-2340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520" y="6889680"/>
            <a:ext cx="24969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2920" y="6889680"/>
            <a:ext cx="33861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0800" y="6889680"/>
            <a:ext cx="24973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fld id="{33A598DA-6B65-4870-A58E-139FD19CE93F}" type="slidenum">
              <a:rPr b="0" lang="bg-BG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09640" y="1763280"/>
            <a:ext cx="9088560" cy="14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4500" spc="-1" strike="noStrike" u="sng">
                <a:solidFill>
                  <a:srgbClr val="0a4600"/>
                </a:solidFill>
                <a:uFillTx/>
                <a:latin typeface="Sylfaen"/>
              </a:rPr>
              <a:t>Интегриран градски транспорт на Бурга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65280" y="3492360"/>
          <a:ext cx="9288360" cy="3337200"/>
        </p:xfrm>
        <a:graphic>
          <a:graphicData uri="http://schemas.openxmlformats.org/drawingml/2006/table">
            <a:tbl>
              <a:tblPr/>
              <a:tblGrid>
                <a:gridCol w="6119640"/>
                <a:gridCol w="3168720"/>
              </a:tblGrid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131 181  116</a:t>
                      </a:r>
                      <a:r>
                        <a:rPr b="1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101 344 122</a:t>
                      </a:r>
                      <a:r>
                        <a:rPr b="1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 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9 836 994 </a:t>
                      </a:r>
                      <a:r>
                        <a:rPr b="1" lang="bg-BG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л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за безвъзмездна финансова помо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26.11.2010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36 месе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00800" rIns="1008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0800" rIns="100800" tIns="50400" bIns="504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09800"/>
                          <a:tab algn="l" pos="2019240"/>
                          <a:tab algn="l" pos="3029040"/>
                          <a:tab algn="l" pos="4038480"/>
                          <a:tab algn="l" pos="5048280"/>
                          <a:tab algn="l" pos="6058080"/>
                          <a:tab algn="l" pos="7067520"/>
                          <a:tab algn="l" pos="8077320"/>
                          <a:tab algn="l" pos="9086760"/>
                          <a:tab algn="l" pos="100965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„</a:t>
                      </a:r>
                      <a:r>
                        <a:rPr b="1" lang="en-US" sz="2400" spc="-1" strike="noStrike">
                          <a:solidFill>
                            <a:srgbClr val="0a4600"/>
                          </a:solidFill>
                          <a:latin typeface="Sylfaen"/>
                        </a:rPr>
                        <a:t>Бургасбус“ ЕО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402920"/>
            <a:ext cx="10215360" cy="79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9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 6: Електронна билетна систем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0200" y="2340000"/>
            <a:ext cx="9625320" cy="4464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5000"/>
          </a:bodyPr>
          <a:p>
            <a:pPr marL="343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Въвеждането на интегрирана електронна билетна система ще предложи следните предим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По-лесно прехвърляне на пътниците от една автобусна линия на друга без допълнително заплащ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В случай на повече транспортни оператори, обслужващи Бургас, пътниците ще могат да използват същия билет за услуга от различни опера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Съществуващата система е много трудоемка за управление и  ниско ефективна, като 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50%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от  пътниците пътуват с единични билети, което води до големи разходи за обслуж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Общината може лесно да въведе промоционални тарифи, например пътуване на по-ниски цени вечер или в нед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440" indent="-343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В бъдеще използването на електронна пътническа карта може да се комбинира с други услуги, като заплащане на паркин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1547640"/>
            <a:ext cx="9622080" cy="146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7: Информация за пътниците в реално врем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0200" y="3089160"/>
            <a:ext cx="9625320" cy="3570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2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lfaen"/>
              <a:buAutoNum type="arabicPeriod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Оборудване на всички спирки в гр.Бургас с дисплеи за информация в реално време за пътниците, показващ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номера на  ли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имената на спирките по маршр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очакваното време за пристигане на следващото превозно сред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lfaen"/>
              <a:buAutoNum type="arabicPeriod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lfaen"/>
              </a:rPr>
              <a:t>Оборудване в превозните средства, осигуряващо информация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номера на съответната ли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имената на спирките по маршр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оставащото време за пристигане до следваща спи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120" indent="-40572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2000" spc="-1" strike="noStrike">
                <a:solidFill>
                  <a:srgbClr val="0a4600"/>
                </a:solidFill>
                <a:latin typeface="Sylfaen"/>
              </a:rPr>
              <a:t>името на следващата спир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0560" y="125856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: Система за управление и контрол на обществения транспор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2663640"/>
            <a:ext cx="9624960" cy="4500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5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208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Централната система за управление на обществения транспорт ще служи като събирателен център съсредоточаващ се върху изискванията и обслужването на всички оперативни елементи и клиентите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Системата включва следните елемен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1292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89208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Централна система за контрол на т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1292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89208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Бордова контролна система на автобус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440" indent="-41292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89208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Интегриране на всички модули, свързани с контрола и управлението на обществения транспо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информация в реално вр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контрола на поддръжк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генериране на дан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управление на автопа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контрол и надзор на обслужван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74040" indent="-2559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8920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приоритет при светофар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0560" y="133164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9:  Система за видеонаблюдение (</a:t>
            </a:r>
            <a:r>
              <a:rPr b="1" i="1" lang="en-GB" sz="3500" spc="-1" strike="noStrike" u="sng">
                <a:solidFill>
                  <a:srgbClr val="000000"/>
                </a:solidFill>
                <a:uFillTx/>
                <a:latin typeface="Sylfaen"/>
              </a:rPr>
              <a:t>CCTV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)</a:t>
            </a:r>
            <a:r>
              <a:rPr b="1" i="1" lang="bg-BG" sz="36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20200" y="2916000"/>
            <a:ext cx="96253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нсталиране на системата  за видеонаблюдение (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CCTV)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по главните  кръстовища по трасето на 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BRT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линията и допълнителните линии на обществения транспорт, с цел подобряване на възможностите за управление на обществения транспорт чрез мониторинг в реално време. Компонентът включ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нсталиране на 40 видеокамери по кръстовищ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Доставка и монтаж на централна контролна система с възможности за  интегриране в системата за контрол и управление на обществения тран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10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: </a:t>
            </a: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Р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еконструкция и модернизация на автобусно депо и работилница, дизел и   метан станция</a:t>
            </a:r>
            <a:r>
              <a:rPr b="1" i="1" lang="bg-BG" sz="28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2663640"/>
            <a:ext cx="9624960" cy="4284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1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Предвиждат се дейности по реконструкция и модернизация на автобусно депо и съоръжения за ремонт и поддръжка с цел осигуряване на подходящи условия за обслужване на закупения по проекта автобусен парк. Предвидените строително - ремонтни работи по компонента включв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478080" algn="just">
              <a:lnSpc>
                <a:spcPct val="100000"/>
              </a:lnSpc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lfaen"/>
              </a:rPr>
              <a:t>Реконструкция и 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модернизация на работилница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за ремонт и поддръжка на новите автобуси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 включително съществуващите 10 метанови автоб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478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Обособяване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на зона за преглед на автобусите, съоръжения за миене и почистване, депо за употребявани гу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478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Преустройство на съществуваща дизел станция и изграждане на дизел и метан стан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478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Преустройство на съществуващи подходи и паркин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4240" indent="-4780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Ремонт и обновяване на зоните около реконструираните работилница</a:t>
            </a: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дизел и метан стан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27080" y="1403280"/>
            <a:ext cx="10918800" cy="126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 1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1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: Реконструкция на автобусни терминал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93640" y="2771280"/>
            <a:ext cx="962496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000" spc="-1" strike="noStrike">
                <a:solidFill>
                  <a:srgbClr val="0a4600"/>
                </a:solidFill>
                <a:latin typeface="Sylfaen"/>
              </a:rPr>
              <a:t>Автобусен терминал  близо до ж.п.гарата (автогара Юг)</a:t>
            </a:r>
            <a:r>
              <a:rPr b="1" lang="en-US" sz="2000" spc="-1" strike="noStrike">
                <a:solidFill>
                  <a:srgbClr val="0a4600"/>
                </a:solidFill>
                <a:latin typeface="Sylfaen"/>
              </a:rPr>
              <a:t>, </a:t>
            </a:r>
            <a:r>
              <a:rPr b="1" lang="bg-BG" sz="2000" spc="-1" strike="noStrike">
                <a:solidFill>
                  <a:srgbClr val="0a4600"/>
                </a:solidFill>
                <a:latin typeface="Sylfaen"/>
              </a:rPr>
              <a:t>чиято реконструкция включ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обновяване и реконструкция на съществуващата с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промяна в цялостния план на съществуващата автогара - обособяването на 8 спирки, предлагащи информация в реално време за пътниците, ограничаване на  местата за паркиране на изчакващите автобуси.</a:t>
            </a:r>
            <a:r>
              <a:rPr b="0" lang="bg-BG" sz="1600" spc="-1" strike="noStrike">
                <a:solidFill>
                  <a:srgbClr val="000000"/>
                </a:solidFill>
                <a:latin typeface="Sylfae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000" spc="-1" strike="noStrike">
                <a:solidFill>
                  <a:srgbClr val="0a4600"/>
                </a:solidFill>
                <a:latin typeface="Sylfaen"/>
              </a:rPr>
              <a:t>Автобусен терминал в ж.к. Меден Рудник, включващ реконструкция на следните съоръ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сграда за оперативни нуж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обръщало за автобу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буферен паркинг за автоб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спирка за пътниц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3640" y="1547640"/>
            <a:ext cx="9622080" cy="126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 1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2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: Изграждане на мрежа от велосипедни маршрут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09280" y="3131640"/>
            <a:ext cx="5256360" cy="3708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Компонентът предвижда изграждането на единна система от велосипедни алеи, които ще обвързват по-отдалечените жилищни квартали с централната градска част и различните функционални зони на 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Обща дължина от 20,2 км велоалеи, представени с червено на схема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Users\MadzhirskiV\Desktop\EasyCapture2.jpg"/>
          <p:cNvPicPr/>
          <p:nvPr/>
        </p:nvPicPr>
        <p:blipFill>
          <a:blip r:embed="rId3"/>
          <a:stretch/>
        </p:blipFill>
        <p:spPr>
          <a:xfrm>
            <a:off x="6354720" y="2771640"/>
            <a:ext cx="31417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20560" y="1619280"/>
            <a:ext cx="962208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 1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3: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 Безопасни пешеходни съоръжения за пресичан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2842920"/>
            <a:ext cx="9624960" cy="39164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8000"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зграждане на 4 пешеходни надлеза, с оглед подобряване достъпа до маршрута на бързата автобусна линия и гарантиране  безопасно и безконфликтно придвижване на пешеходците на следните ме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4080" indent="-425880" algn="just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Бул. "Димитър Димов",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при Гимназия с преподаване на английски език "Гео Милев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4080" indent="-425880" algn="just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Ул."Стефан Стамболов"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, в 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близост до МБАЛ – Бург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4080" indent="-425880" algn="just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Ул."Стефан Стамболов"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, в близост</a:t>
            </a: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 до </a:t>
            </a:r>
            <a:r>
              <a:rPr b="0" lang="ru-RU" sz="2000" spc="-1" strike="noStrike">
                <a:solidFill>
                  <a:srgbClr val="000000"/>
                </a:solidFill>
                <a:latin typeface="Sylfaen"/>
              </a:rPr>
              <a:t>хотел «Мираж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4080" indent="-425880" algn="just">
              <a:lnSpc>
                <a:spcPct val="13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Сградните съоръжения на фирма Чикън груп по пътя за кв. Ветр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0560" y="133164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Предпроектни проучвания за надграждане на системата за бърз автобусен транспор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0200" y="2916000"/>
            <a:ext cx="9866520" cy="4095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Проектът предвижда изготвянето на предпроектни проучвания за възможно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надграждане на системата за бърз автобусен превоз. Заложени са следните проуч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3280" indent="-509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Концепция за надграждане на </a:t>
            </a:r>
            <a:r>
              <a:rPr b="0" lang="en-GB" sz="2200" spc="-1" strike="noStrike">
                <a:solidFill>
                  <a:srgbClr val="000000"/>
                </a:solidFill>
                <a:latin typeface="Sylfaen"/>
              </a:rPr>
              <a:t>BRT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системата след успешното й въвежд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3280" indent="-509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Концепция за изграждане на буферни паркинги в ключови зони на г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3280" indent="-509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Концепция за автобусен терминал за междуселищен тран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3280" indent="-509760">
              <a:lnSpc>
                <a:spcPct val="12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Концепция за интегрирана система за управление на трафи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7560" y="148248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49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663640"/>
            <a:ext cx="9624960" cy="4211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marL="625320" indent="-625320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вишаване на привлекателността и подобряване на достъпа до транспортната услуг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Стимулиране метрополисните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 функции на град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Създаване на условия за по-голяма мобилност на членовете на  местната общнос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Sylfaen"/>
              </a:rPr>
              <a:t>Превенция и н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амаляване на задръстванията и повишаване на капацитета и скоростта на системата за обществен транспор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добряване качеството на околната среда чрез намаляване на емисиите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добряване на безопасността на транспорта и придвижването в градската сред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3640" y="1187280"/>
            <a:ext cx="9622080" cy="93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" y="2123640"/>
            <a:ext cx="10152000" cy="4751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7000"/>
          </a:bodyPr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Доставка на нови нискоемисионни автобуси</a:t>
            </a:r>
            <a:r>
              <a:rPr b="1" lang="ru-RU" sz="2400" spc="-1" strike="noStrike">
                <a:solidFill>
                  <a:srgbClr val="0a46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Въвеждане на система за бърз автобусен транспорт</a:t>
            </a:r>
            <a:r>
              <a:rPr b="0" lang="ru-RU" sz="2400" spc="-1" strike="noStrike">
                <a:solidFill>
                  <a:srgbClr val="0a4600"/>
                </a:solidFill>
                <a:latin typeface="Sylfaen"/>
              </a:rPr>
              <a:t> (</a:t>
            </a:r>
            <a:r>
              <a:rPr b="0" lang="en-GB" sz="2400" spc="-1" strike="noStrike">
                <a:solidFill>
                  <a:srgbClr val="0a4600"/>
                </a:solidFill>
                <a:latin typeface="Sylfaen"/>
              </a:rPr>
              <a:t>BRT</a:t>
            </a:r>
            <a:r>
              <a:rPr b="0" lang="ru-RU" sz="2400" spc="-1" strike="noStrike">
                <a:solidFill>
                  <a:srgbClr val="0a4600"/>
                </a:solidFill>
                <a:latin typeface="Sylfae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Въвеждане на приоритетна за автобусите светофарна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Въвеждане на нова оптимизирана и атрактивна автобусна маршрутна мр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Централна автобусна спирка с атрактивен диза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Електронна билетна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720" indent="-378720">
              <a:lnSpc>
                <a:spcPct val="100000"/>
              </a:lnSpc>
              <a:spcBef>
                <a:spcPts val="799"/>
              </a:spcBef>
              <a:buSzPct val="102884"/>
              <a:buBlip>
                <a:blip r:embed="rId7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7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Информация за пътниците в реално време по спирките и в превозните средства</a:t>
            </a: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lfae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93640" y="1403280"/>
            <a:ext cx="9622080" cy="111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8360" y="2771280"/>
            <a:ext cx="9624960" cy="33130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89000"/>
          </a:bodyPr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Система за управление и контрол на обществения транспор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9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Система за видеонаблюдение (</a:t>
            </a:r>
            <a:r>
              <a:rPr b="0" lang="en-US" sz="2400" spc="-1" strike="noStrike">
                <a:solidFill>
                  <a:srgbClr val="0a4600"/>
                </a:solidFill>
                <a:latin typeface="Sylfaen"/>
              </a:rPr>
              <a:t>CCTV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10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1" lang="ru-RU" sz="2400" spc="-1" strike="noStrike">
                <a:solidFill>
                  <a:srgbClr val="0a4600"/>
                </a:solidFill>
                <a:latin typeface="Sylfaen"/>
              </a:rPr>
              <a:t>Р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еконструкция и модернизация на автобусно депо и работилница, дизел и   метан ста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1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Реконструкция на автобусни терминали</a:t>
            </a:r>
            <a:r>
              <a:rPr b="1" lang="bg-BG" sz="2400" spc="-1" strike="noStrike">
                <a:solidFill>
                  <a:srgbClr val="0a46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2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Изграждане на мрежа от велосипедни маршр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400" indent="-3474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24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Sylfaen"/>
              </a:rPr>
              <a:t>3</a:t>
            </a:r>
            <a:r>
              <a:rPr b="1" lang="bg-BG" sz="2400" spc="-1" strike="noStrike">
                <a:solidFill>
                  <a:srgbClr val="000000"/>
                </a:solidFill>
                <a:latin typeface="Sylfaen"/>
              </a:rPr>
              <a:t>: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Безопасни пешеходни съоръжения за пресич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0560" y="161892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1: Доставка на нови  нискоемисионни автобус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0200" y="3132000"/>
            <a:ext cx="9625320" cy="360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631800" indent="-6318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Закупуване на 28 съчленени дизелови автобуса, които да обслужват </a:t>
            </a:r>
            <a:r>
              <a:rPr b="0" lang="en-GB" sz="2400" spc="-1" strike="noStrike">
                <a:solidFill>
                  <a:srgbClr val="000000"/>
                </a:solidFill>
                <a:latin typeface="Sylfaen"/>
              </a:rPr>
              <a:t>BRT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линията, отговарящи на европейските стандарти за емисии </a:t>
            </a:r>
            <a:r>
              <a:rPr b="0" lang="en-GB" sz="2400" spc="-1" strike="noStrike">
                <a:solidFill>
                  <a:srgbClr val="000000"/>
                </a:solidFill>
                <a:latin typeface="Sylfaen"/>
              </a:rPr>
              <a:t>Euro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 5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ли по-вис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Закупуване на 39 метанови автобуса, с които да се осигури модерен автопарк за обслужване на останалата част от мрежата на обществения 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1800" indent="-63180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Въведените в експлоатация автобуси ще бъдат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нискобордови, с цел осигуряване достъпност за хора с увреж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7560" y="124596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Въвеждане на система за бърз автобусен транспорт</a:t>
            </a: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 (</a:t>
            </a:r>
            <a:r>
              <a:rPr b="1" i="1" lang="en-GB" sz="3500" spc="-1" strike="noStrike" u="sng">
                <a:solidFill>
                  <a:srgbClr val="000000"/>
                </a:solidFill>
                <a:uFillTx/>
                <a:latin typeface="Sylfaen"/>
              </a:rPr>
              <a:t>BRT</a:t>
            </a:r>
            <a:r>
              <a:rPr b="1" i="1" lang="ru-RU" sz="3500" spc="-1" strike="noStrike" u="sng">
                <a:solidFill>
                  <a:srgbClr val="000000"/>
                </a:solidFill>
                <a:uFillTx/>
                <a:latin typeface="Sylfae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BRT map"/>
          <p:cNvPicPr/>
          <p:nvPr/>
        </p:nvPicPr>
        <p:blipFill>
          <a:blip r:embed="rId1"/>
          <a:stretch/>
        </p:blipFill>
        <p:spPr>
          <a:xfrm>
            <a:off x="5273640" y="2484360"/>
            <a:ext cx="5029200" cy="4815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588960" y="3367080"/>
            <a:ext cx="439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Обща дължина на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 BRT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коридора – 15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Коридорът включва изграждане сегрегирани автобусни ленти и платна по маршрута, означен с червено на схем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0560" y="161892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: Въвеждане на приоритетна за автобусите светофарна систем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0200" y="3132000"/>
            <a:ext cx="9625320" cy="4104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Оборудване на общо 20 светофарно регулирани кръстовища с контролери за осигуряване на приоритет  на средствата за обществен транспор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3488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на всички 16 кръстовища по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BRT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 трасе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434880" algn="just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на 4 допълнителни  кръстовища по маршрута на захранващите 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BRT </a:t>
            </a:r>
            <a:r>
              <a:rPr b="0" lang="bg-BG" sz="2200" spc="-1" strike="noStrike">
                <a:solidFill>
                  <a:srgbClr val="000000"/>
                </a:solidFill>
                <a:latin typeface="Sylfaen"/>
              </a:rPr>
              <a:t>автобусни линии</a:t>
            </a:r>
            <a:r>
              <a:rPr b="0" lang="en-US" sz="22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нвестициите ще доведат до намаляване на времето за изчакване на автобусите, избягване на задръствания, предвидимост и съкращаване на необходимото за едно пътуване време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1547640"/>
            <a:ext cx="9622080" cy="126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4: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Въвеждане на нова оптимизирана и атрактивна автобусна маршрутна мреж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916000"/>
            <a:ext cx="9624960" cy="4033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Рационализиране на мрашрутната мрежа, чрез редуциране на броя автобусни линии от 19 на 1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609480" algn="just">
              <a:lnSpc>
                <a:spcPct val="100000"/>
              </a:lnSpc>
              <a:spcBef>
                <a:spcPts val="601"/>
              </a:spcBef>
              <a:buSzPct val="102792"/>
              <a:buBlip>
                <a:blip r:embed="rId1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Sylfaen"/>
              </a:rPr>
              <a:t>4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автобусни линии в основната част на гр. Бургас – 1 по </a:t>
            </a:r>
            <a:r>
              <a:rPr b="0" lang="en-US" sz="2400" spc="-1" strike="noStrike">
                <a:solidFill>
                  <a:srgbClr val="000000"/>
                </a:solidFill>
                <a:latin typeface="Sylfaen"/>
              </a:rPr>
              <a:t>BRT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коридора и 3 захранващи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6094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6 линии, обслужващи отдалечените кварт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6094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Въвеждане на значително по-голяма честота на обслужване по 10-т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2360" indent="-6094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6-те линии до крайните квартали ще бъдат с краен терминал  автогара Юг (до ж.п. гарата), което ще намали степента на прекачв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1692000"/>
            <a:ext cx="9622080" cy="12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: Централна автобусна спирка с атрактивен дизай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0200" y="3131640"/>
            <a:ext cx="9625320" cy="3627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450720" indent="-45072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ru-RU" sz="2400" spc="-1" strike="noStrike">
                <a:solidFill>
                  <a:srgbClr val="0a4600"/>
                </a:solidFill>
                <a:latin typeface="Sylfaen"/>
              </a:rPr>
              <a:t>Спирка е ключов момент в интегрирането на системата за бърз автобусен транспорт в градоустройствената схема на г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 </a:t>
            </a:r>
            <a:r>
              <a:rPr b="0" lang="bg-BG" sz="2400" spc="-1" strike="noStrike">
                <a:solidFill>
                  <a:srgbClr val="0a4600"/>
                </a:solidFill>
                <a:latin typeface="Sylfaen"/>
              </a:rPr>
              <a:t>Елементи на спирката ще бъд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офис за продажба на бил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тоале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5840" indent="-2854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павилион за вестници и списания.</a:t>
            </a:r>
            <a:r>
              <a:rPr b="0" lang="bg-BG" sz="1800" spc="-1" strike="noStrike">
                <a:solidFill>
                  <a:srgbClr val="000000"/>
                </a:solidFill>
                <a:latin typeface="Sylfae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0:26:33Z</dcterms:created>
  <dc:creator>VVasileva</dc:creator>
  <dc:description/>
  <dc:language>en-US</dc:language>
  <cp:lastModifiedBy>PetrusenkoR</cp:lastModifiedBy>
  <dcterms:modified xsi:type="dcterms:W3CDTF">2012-08-17T13:07:42Z</dcterms:modified>
  <cp:revision>215</cp:revision>
  <dc:subject/>
  <dc:title>Burgas IUTP</dc:title>
</cp:coreProperties>
</file>