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9A3-F596-48FE-A0B7-3D55F40A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D9E-D761-415E-A782-30BB1D6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064-AE2D-43A6-A02C-FDD81D49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268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96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268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D4B-925B-41E8-811C-1AEB31B6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C34-FA3E-4EE8-9C47-109DC6C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F67-D92F-40CB-9028-D3D3513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DE6-63C6-4747-99FC-9DB4495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BF0-E56A-4E8E-A625-759ADC65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128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632-8119-4A01-AE61-43905BE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7D4-685B-4227-A3B0-A7958E3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935-B2F1-45FD-A8A8-E37EC65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4EE-4844-4FBF-A7C1-D20C913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5000"/>
          </a:bodyPr>
          <a:p>
            <a:pPr marL="331920" indent="-3319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6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107720" indent="-221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551600" indent="-2210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E1F97C-C1B4-480D-AC0A-2CC72EF4EA4E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93640" y="1620720"/>
            <a:ext cx="958716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9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Плевен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66720" y="2916360"/>
          <a:ext cx="9288360" cy="3660480"/>
        </p:xfrm>
        <a:graphic>
          <a:graphicData uri="http://schemas.openxmlformats.org/drawingml/2006/table">
            <a:tbl>
              <a:tblPr/>
              <a:tblGrid>
                <a:gridCol w="5256360"/>
                <a:gridCol w="403200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3 322 246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0 395 01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 927 23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0.07.201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„</a:t>
                      </a: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Тролейбусен  транспорт“ ЕООД Плев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1331640"/>
            <a:ext cx="96235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 Велоал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4600" y="2339640"/>
            <a:ext cx="3732120" cy="429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понентът е част от цялостна стратегия за развитието на велосипедния транспорт в град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 рамките на настоящия проект се предвижда изграждане на велоалеи с обща дължина 9 429 м, разпределени в 9 маршрута, които са изобразени на схем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51240" y="2352600"/>
            <a:ext cx="5726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2: Програма за устойчиво развитие и внедряване на иновативн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4000"/>
          </a:bodyPr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Стратегическа рамка за дългосрочно планиране и прогнозира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Разработване на единен финансов модел на МГО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Модел за управление на транспорта и инфраструктура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Обучения и развитие на административен капацит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Генерален план за организация на движениет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Стратегия и план за организиране и контрол на паркиранет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Техническа помощ и подпомагане на общината при управление на проек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720" y="1332000"/>
            <a:ext cx="9622080" cy="85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2266920"/>
            <a:ext cx="96249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0000"/>
          </a:bodyPr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вишена привлекателност на обществения транспорт чрез повишено качество на услуг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 достъп на хората с увреждания до системата на градския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а урбанистична функционалност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вишена мобилност на общността, давайки предимство на щадящи околната среда видове превоз като обществен транспорт, велосипеди и ходене пе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Намалено замърсяване и увеличен капацитет на транспортнат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ие на околната среда чрез намаляване на емисиите – развитие на тролейбуснат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ие на пътната безопас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82720" y="2339640"/>
            <a:ext cx="9275760" cy="441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1000"/>
          </a:bodyPr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Система за управление на обществения транспорт</a:t>
            </a:r>
            <a:r>
              <a:rPr b="0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Изграждане на ново тролейбусно деп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Разширение и оптимизиране на тролейбусната мреж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Реконструкция и подобрение на тролейбусната мрежа</a:t>
            </a:r>
            <a:r>
              <a:rPr b="1" lang="bg-BG" sz="21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Sylfaen"/>
              </a:rPr>
              <a:t>*</a:t>
            </a: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Интелигентна система за управление на траф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Облагородяване на спирки на обществения транспор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Велоал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2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Програма за устойчиво развитие и внедряване на иновативни реш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720" y="1405080"/>
            <a:ext cx="9622080" cy="934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9440"/>
            <a:ext cx="10396440" cy="70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омерацията на компоненти</a:t>
            </a: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е последователна, тъй като от първоначалния обхват на проекта отпаднаха някои компонен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140472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Система за управление на обществения транспорт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2360" y="2771280"/>
            <a:ext cx="9623520" cy="408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истема за позициониране на возилата (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GPS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приемници, радио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/ GPRS/ WiFi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предаватели на данни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бордови компютр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ветлинно и гласово известяване (във возилата, на спирки, чрез 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SMS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зграждане на център за управление и контро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уникационна сре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нтерактивен интернет порт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Изграждане на ново тролейбусно деп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Sylfaen"/>
              </a:rPr>
              <a:t>Предвижда се изграждане на цялостно тролейбусно депо с необходимите обслужващи сгради и съоръ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нтролно- пропускателен пунк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Административна ча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нтролно- технически пунк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Мив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ервизно помещ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Бояджий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Тенекиджийно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13316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Разширение и оптимизиране на тролейбусната мр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1880" y="2700360"/>
            <a:ext cx="3516480" cy="4132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Компонентът предвижда изграждането на нова въздушно-контактна мрежа (ВКМ) с обща дължина 6 681 м, която включва 4 нови участъка, отбелязани с червено на схем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4000" y="2700360"/>
            <a:ext cx="54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Реконструкция и подобрение на тролейбусната мреж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4960" y="2412720"/>
            <a:ext cx="4307040" cy="4384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4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Sylfaen"/>
              </a:rPr>
              <a:t>Компонентът включва изпълнение на следните видове 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реустройство на контактна мре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Модернизация и монтаж на автоматични стрел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контактната мре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токоизправителни стан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omponent 4"/>
          <p:cNvPicPr/>
          <p:nvPr/>
        </p:nvPicPr>
        <p:blipFill>
          <a:blip r:embed="rId5"/>
          <a:stretch/>
        </p:blipFill>
        <p:spPr>
          <a:xfrm>
            <a:off x="4770360" y="2413080"/>
            <a:ext cx="57276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Интелигентна система за управление на т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9000"/>
          </a:bodyPr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мяна или монтиране на нов хардуер по кръстовищата –контролери, светофарни секции и детектори за регистриране на движението в реално врем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ализиране на адаптивно контролиране на движението по отделно на всяко кръстовище само за себе с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съществяване на комуникационна връзка с центъра за управление на обществения транспорт и даване на възможност за обратна връз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азработване на web-базирано решение за обработка и анализ на данните от датчиците и предоставяне на регистрираната информация за движението на обществения транспорт в реално вре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360" y="13316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Облагородяване на спирки на обществения 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бновяване на знаковото стопанст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ставяне на информационни табели с разпис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бособяване на нови уширения за спиране („джобове“), подобряване геометрията на съществуващи такива и изместване на спир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организацията на движението – поставяне на хоризонтална маркировка и очертаване на пешеходни пъте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тротоари в района на спирките, монтиране на електрически стълбове, изграждане на помещения за отдих и тоалетни на крайни спир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Sylfae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8:49:53Z</dcterms:created>
  <dc:creator>MadzhirskiV</dc:creator>
  <dc:description/>
  <dc:language>en-US</dc:language>
  <cp:lastModifiedBy>PetrusenkoR</cp:lastModifiedBy>
  <dcterms:modified xsi:type="dcterms:W3CDTF">2012-08-17T13:07:35Z</dcterms:modified>
  <cp:revision>95</cp:revision>
  <dc:subject/>
  <dc:title>Pleven IUTP</dc:title>
</cp:coreProperties>
</file>