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691813" cy="7559675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56C2-F513-4411-B743-8237BA907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9623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4960" y="4802760"/>
            <a:ext cx="9623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B54-F651-4976-A35A-DEE3996B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624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4960" y="480276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66240" y="480276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FBE-46DA-4D3D-BB6C-0F4187CF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8640" y="266868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42680" y="266868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4960" y="480276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88640" y="480276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42680" y="480276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F891-ED34-458E-AD21-15FFE297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4960" y="2668680"/>
            <a:ext cx="962352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6783-31A2-4CEB-9F72-C99965B8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962352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275-C9A3-4E4F-8D3C-06FE864D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46962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6240" y="2668680"/>
            <a:ext cx="46962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98E-8C74-4481-A567-600007DF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41F-F98E-415D-B60C-8022CEAF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47560" y="124128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1964-B76B-4CD7-923E-B0FBDAEA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66240" y="2668680"/>
            <a:ext cx="46962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4960" y="480276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DFA-1452-41DA-A273-2073C400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46962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6624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66240" y="480276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0634-DF9B-4CD5-9DA6-32D2A197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624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4960" y="4802760"/>
            <a:ext cx="9623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933-72E4-4BA5-A6F8-D4C507A3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5-te grada"/>
          <p:cNvPicPr/>
          <p:nvPr/>
        </p:nvPicPr>
        <p:blipFill>
          <a:blip r:embed="rId2"/>
          <a:stretch/>
        </p:blipFill>
        <p:spPr>
          <a:xfrm>
            <a:off x="0" y="0"/>
            <a:ext cx="10693440" cy="144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4960" y="2668680"/>
            <a:ext cx="962352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85000"/>
          </a:bodyPr>
          <a:p>
            <a:pPr marL="331920" indent="-3319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64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107720" indent="-2210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551600" indent="-2210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1994400" indent="-2214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1994400" indent="-2214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1994400" indent="-2214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34DAA8E-0BF1-4AB2-9905-ED18A81FEA69}" type="slidenum">
              <a:rPr b="0" lang="bg-BG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93640" y="1620720"/>
            <a:ext cx="9587160" cy="107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900" spc="-1" strike="noStrike" u="sng">
                <a:solidFill>
                  <a:srgbClr val="0a4600"/>
                </a:solidFill>
                <a:uFillTx/>
                <a:latin typeface="Sylfaen"/>
              </a:rPr>
              <a:t>Интегриран градски транспорт на Плевен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66720" y="2916360"/>
          <a:ext cx="9288360" cy="3660480"/>
        </p:xfrm>
        <a:graphic>
          <a:graphicData uri="http://schemas.openxmlformats.org/drawingml/2006/table">
            <a:tbl>
              <a:tblPr/>
              <a:tblGrid>
                <a:gridCol w="5256360"/>
                <a:gridCol w="4032000"/>
              </a:tblGrid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Обща стойност на про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23 322 246 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Безвъзмездна финансова помо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20 395 013 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обствен прин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2 927 233 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134964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Дата на подписване на договор за безвъзмездна финансова помо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10.07.2012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рок за изпъ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36 месе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134964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артнь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„</a:t>
                      </a: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Тролейбусен  транспорт“ ЕООД Плев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0720" y="1331640"/>
            <a:ext cx="9623520" cy="81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3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8:  Велоал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34600" y="2339640"/>
            <a:ext cx="3732120" cy="429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Компонентът е част от цялостна стратегия за развитието на велосипедния транспорт в град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В рамките на настоящия проект се предвижда изграждане на велоалеи с обща дължина 9 429 м, разпределени в 9 маршрута, които са изобразени на схемата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251240" y="2352600"/>
            <a:ext cx="57261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2: Програма за устойчиво развитие и внедряване на иновативни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4960" y="2668680"/>
            <a:ext cx="962352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4000"/>
          </a:bodyPr>
          <a:p>
            <a:pPr marL="507240" indent="-507240">
              <a:lnSpc>
                <a:spcPct val="12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Стратегическа рамка за дългосрочно планиране и прогнозиран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7240" indent="-507240">
              <a:lnSpc>
                <a:spcPct val="12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Разработване на единен финансов модел на МГО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7240" indent="-507240">
              <a:lnSpc>
                <a:spcPct val="12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Модел за управление на транспорта и инфраструктура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7240" indent="-507240">
              <a:lnSpc>
                <a:spcPct val="12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Обучения и развитие на административен капаците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7240" indent="-507240">
              <a:lnSpc>
                <a:spcPct val="120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Генерален план за организация на движениет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7240" indent="-507240">
              <a:lnSpc>
                <a:spcPct val="120000"/>
              </a:lnSpc>
              <a:spcBef>
                <a:spcPts val="575"/>
              </a:spcBef>
              <a:buSzPct val="102871"/>
              <a:buBlip>
                <a:blip r:embed="rId6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Стратегия и план за организиране и контрол на паркиранет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07240" indent="-507240">
              <a:lnSpc>
                <a:spcPct val="120000"/>
              </a:lnSpc>
              <a:spcBef>
                <a:spcPts val="575"/>
              </a:spcBef>
              <a:buSzPct val="102871"/>
              <a:buBlip>
                <a:blip r:embed="rId7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Техническа помощ и подпомагане на общината при управление на проект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0720" y="1332000"/>
            <a:ext cx="9622080" cy="85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4700" spc="-1" strike="noStrike" u="sng">
                <a:solidFill>
                  <a:srgbClr val="000000"/>
                </a:solidFill>
                <a:uFillTx/>
                <a:latin typeface="Sylfaen"/>
              </a:rPr>
              <a:t>Цели на проект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33520" y="2266920"/>
            <a:ext cx="962496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 fontScale="90000"/>
          </a:bodyPr>
          <a:p>
            <a:pPr marL="488520" indent="-488520" algn="just"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Повишена привлекателност на обществения транспорт чрез повишено качество на услуга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 algn="just"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Подобрен достъп на хората с увреждания до системата на градския транспо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 algn="just"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Подобрена урбанистична функционалност на гра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 algn="just"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Повишена мобилност на общността, давайки предимство на щадящи околната среда видове превоз като обществен транспорт, велосипеди и ходене пеш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 algn="just"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Намалено замърсяване и увеличен капацитет на транспортната сист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 algn="just"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Подобрение на околната среда чрез намаляване на емисиите – развитие на тролейбусната сист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 algn="just">
              <a:lnSpc>
                <a:spcPct val="11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Подобрение на пътната безопаснос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82720" y="2339640"/>
            <a:ext cx="9275760" cy="4414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1000"/>
          </a:bodyPr>
          <a:p>
            <a:pPr marL="355320" indent="-355320">
              <a:lnSpc>
                <a:spcPct val="130000"/>
              </a:lnSpc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1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:</a:t>
            </a:r>
            <a:r>
              <a:rPr b="1" lang="bg-BG" sz="2100" spc="-1" strike="noStrike">
                <a:solidFill>
                  <a:srgbClr val="000000"/>
                </a:solidFill>
                <a:latin typeface="Sylfaen"/>
              </a:rPr>
              <a:t>    </a:t>
            </a:r>
            <a:r>
              <a:rPr b="0" lang="bg-BG" sz="2100" spc="-1" strike="noStrike">
                <a:solidFill>
                  <a:srgbClr val="0a4600"/>
                </a:solidFill>
                <a:latin typeface="Sylfaen"/>
              </a:rPr>
              <a:t>Система за управление на обществения транспорт</a:t>
            </a:r>
            <a:r>
              <a:rPr b="0" lang="bg-BG" sz="2100" spc="-1" strike="noStrike" u="sng">
                <a:solidFill>
                  <a:srgbClr val="000000"/>
                </a:solidFill>
                <a:uFillTx/>
                <a:latin typeface="Sylfae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130000"/>
              </a:lnSpc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1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2: </a:t>
            </a:r>
            <a:r>
              <a:rPr b="1" lang="bg-BG" sz="2100" spc="-1" strike="noStrike">
                <a:solidFill>
                  <a:srgbClr val="000000"/>
                </a:solidFill>
                <a:latin typeface="Sylfaen"/>
              </a:rPr>
              <a:t>   </a:t>
            </a:r>
            <a:r>
              <a:rPr b="0" lang="bg-BG" sz="2100" spc="-1" strike="noStrike">
                <a:solidFill>
                  <a:srgbClr val="0a4600"/>
                </a:solidFill>
                <a:latin typeface="Sylfaen"/>
              </a:rPr>
              <a:t>Изграждане на ново тролейбусно деп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130000"/>
              </a:lnSpc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1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:</a:t>
            </a:r>
            <a:r>
              <a:rPr b="1" lang="bg-BG" sz="2100" spc="-1" strike="noStrike">
                <a:solidFill>
                  <a:srgbClr val="000000"/>
                </a:solidFill>
                <a:latin typeface="Sylfaen"/>
              </a:rPr>
              <a:t>    </a:t>
            </a:r>
            <a:r>
              <a:rPr b="0" lang="bg-BG" sz="2100" spc="-1" strike="noStrike">
                <a:solidFill>
                  <a:srgbClr val="0a4600"/>
                </a:solidFill>
                <a:latin typeface="Sylfaen"/>
              </a:rPr>
              <a:t>Разширение и оптимизиране на тролейбусната мреж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130000"/>
              </a:lnSpc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1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4:</a:t>
            </a:r>
            <a:r>
              <a:rPr b="1" lang="bg-BG" sz="2100" spc="-1" strike="noStrike">
                <a:solidFill>
                  <a:srgbClr val="000000"/>
                </a:solidFill>
                <a:latin typeface="Sylfaen"/>
              </a:rPr>
              <a:t>    </a:t>
            </a:r>
            <a:r>
              <a:rPr b="0" lang="bg-BG" sz="2100" spc="-1" strike="noStrike">
                <a:solidFill>
                  <a:srgbClr val="0a4600"/>
                </a:solidFill>
                <a:latin typeface="Sylfaen"/>
              </a:rPr>
              <a:t>Реконструкция и подобрение на тролейбусната мрежа</a:t>
            </a:r>
            <a:r>
              <a:rPr b="1" lang="bg-BG" sz="2100" spc="-1" strike="noStrike">
                <a:solidFill>
                  <a:srgbClr val="0a4600"/>
                </a:solidFill>
                <a:latin typeface="Sylfae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130000"/>
              </a:lnSpc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1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6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Sylfaen"/>
              </a:rPr>
              <a:t>*</a:t>
            </a:r>
            <a:r>
              <a:rPr b="1" lang="bg-BG" sz="2100" spc="-1" strike="noStrike" u="sng">
                <a:solidFill>
                  <a:srgbClr val="000000"/>
                </a:solidFill>
                <a:uFillTx/>
                <a:latin typeface="Sylfaen"/>
              </a:rPr>
              <a:t>:</a:t>
            </a:r>
            <a:r>
              <a:rPr b="1" lang="bg-BG" sz="2100" spc="-1" strike="noStrike">
                <a:solidFill>
                  <a:srgbClr val="000000"/>
                </a:solidFill>
                <a:latin typeface="Sylfaen"/>
              </a:rPr>
              <a:t>    </a:t>
            </a:r>
            <a:r>
              <a:rPr b="0" lang="bg-BG" sz="2100" spc="-1" strike="noStrike">
                <a:solidFill>
                  <a:srgbClr val="0a4600"/>
                </a:solidFill>
                <a:latin typeface="Sylfaen"/>
              </a:rPr>
              <a:t>Интелигентна система за управление на трафи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130000"/>
              </a:lnSpc>
              <a:spcBef>
                <a:spcPts val="524"/>
              </a:spcBef>
              <a:buSzPct val="102757"/>
              <a:buBlip>
                <a:blip r:embed="rId6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1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7:</a:t>
            </a:r>
            <a:r>
              <a:rPr b="1" lang="bg-BG" sz="2100" spc="-1" strike="noStrike">
                <a:solidFill>
                  <a:srgbClr val="000000"/>
                </a:solidFill>
                <a:latin typeface="Sylfaen"/>
              </a:rPr>
              <a:t>    </a:t>
            </a:r>
            <a:r>
              <a:rPr b="0" lang="bg-BG" sz="2100" spc="-1" strike="noStrike">
                <a:solidFill>
                  <a:srgbClr val="0a4600"/>
                </a:solidFill>
                <a:latin typeface="Sylfaen"/>
              </a:rPr>
              <a:t>Облагородяване на спирки на обществения транспор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130000"/>
              </a:lnSpc>
              <a:spcBef>
                <a:spcPts val="524"/>
              </a:spcBef>
              <a:buSzPct val="102757"/>
              <a:buBlip>
                <a:blip r:embed="rId7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1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8:</a:t>
            </a:r>
            <a:r>
              <a:rPr b="1" lang="bg-BG" sz="2100" spc="-1" strike="noStrike">
                <a:solidFill>
                  <a:srgbClr val="000000"/>
                </a:solidFill>
                <a:latin typeface="Sylfaen"/>
              </a:rPr>
              <a:t>    </a:t>
            </a:r>
            <a:r>
              <a:rPr b="0" lang="bg-BG" sz="2100" spc="-1" strike="noStrike">
                <a:solidFill>
                  <a:srgbClr val="0a4600"/>
                </a:solidFill>
                <a:latin typeface="Sylfaen"/>
              </a:rPr>
              <a:t>Велоале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lnSpc>
                <a:spcPct val="130000"/>
              </a:lnSpc>
              <a:spcBef>
                <a:spcPts val="524"/>
              </a:spcBef>
              <a:buSzPct val="102757"/>
              <a:buBlip>
                <a:blip r:embed="rId8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1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2:</a:t>
            </a:r>
            <a:r>
              <a:rPr b="1" lang="bg-BG" sz="21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0" lang="bg-BG" sz="2100" spc="-1" strike="noStrike">
                <a:solidFill>
                  <a:srgbClr val="0a4600"/>
                </a:solidFill>
                <a:latin typeface="Sylfaen"/>
              </a:rPr>
              <a:t>Програма за устойчиво развитие и внедряване на иновативни реш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720" y="1405080"/>
            <a:ext cx="9622080" cy="934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47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и на проект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859440"/>
            <a:ext cx="10396440" cy="702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* Номерацията на компоненти</a:t>
            </a:r>
            <a:r>
              <a:rPr b="0" lang="bg-BG" sz="1000" spc="-1" strike="noStrike">
                <a:solidFill>
                  <a:srgbClr val="000000"/>
                </a:solidFill>
                <a:latin typeface="Times New Roman"/>
              </a:rPr>
              <a:t>те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не е последователна, тъй като от първоначалния обхват на проекта отпаднаха някои компонент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360" y="1404720"/>
            <a:ext cx="962352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: Система за управление на обществения транспорт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Sylfae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22360" y="2771280"/>
            <a:ext cx="9623520" cy="4086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628560" indent="-628560" algn="just">
              <a:lnSpc>
                <a:spcPct val="13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Система за позициониране на возилата (</a:t>
            </a: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GPS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 приемници, радио</a:t>
            </a: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/ GPRS/ WiFi 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 предаватели на данни</a:t>
            </a: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, 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бордови компютри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 algn="just">
              <a:lnSpc>
                <a:spcPct val="13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Светлинно и гласово известяване (във возилата, на спирки, чрез </a:t>
            </a: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SMS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 algn="just">
              <a:lnSpc>
                <a:spcPct val="13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Изграждане на център за управление и контрол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 algn="just">
              <a:lnSpc>
                <a:spcPct val="13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Комуникационна сред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 algn="just">
              <a:lnSpc>
                <a:spcPct val="130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Интерактивен интернет порта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2: Изграждане на ново тролейбусно деп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34960" y="2668680"/>
            <a:ext cx="962352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9640" indent="-5396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Sylfaen"/>
              </a:rPr>
              <a:t>Предвижда се изграждане на цялостно тролейбусно депо с необходимите обслужващи сгради и съоръж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Контролно- пропускателен пунк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Административна час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Контролно- технически пунк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Мивк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Сервизно помеще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6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Бояджийн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7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Тенекиджийно</a:t>
            </a: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360" y="1331640"/>
            <a:ext cx="9623520" cy="12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: Разширение и оптимизиране на тролейбусната мре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1880" y="2700360"/>
            <a:ext cx="3516480" cy="4132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Компонентът предвижда изграждането на нова въздушно-контактна мрежа (ВКМ) с обща дължина 6 681 м, която включва 4 нови участъка, отбелязани с червено на схемата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94000" y="2700360"/>
            <a:ext cx="54295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4: Реконструкция и подобрение на тролейбусната мреж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4960" y="2412720"/>
            <a:ext cx="4307040" cy="43844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4000"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Sylfaen"/>
              </a:rPr>
              <a:t>Компонентът включва изпълнение на следните видове дей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Преустройство на контактна мреж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Модернизация и монтаж на автоматични стрелк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Рехабилитация на контактната мреж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Рехабилитация на токоизправителни станци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omponent 4"/>
          <p:cNvPicPr/>
          <p:nvPr/>
        </p:nvPicPr>
        <p:blipFill>
          <a:blip r:embed="rId5"/>
          <a:stretch/>
        </p:blipFill>
        <p:spPr>
          <a:xfrm>
            <a:off x="4770360" y="2413080"/>
            <a:ext cx="572760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6: Интелигентна система за управление на т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4960" y="2668680"/>
            <a:ext cx="962352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89000"/>
          </a:bodyPr>
          <a:p>
            <a:pPr marL="347400" indent="-34740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Подмяна или монтиране на нов хардуер по кръстовищата –контролери, светофарни секции и детектори за регистриране на движението в реално врем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Реализиране на адаптивно контролиране на движението по отделно на всяко кръстовище само за себе с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Осъществяване на комуникационна връзка с центъра за управление на обществения транспорт и даване на възможност за обратна връзк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Разработване на web-базирано решение за обработка и анализ на данните от датчиците и предоставяне на регистрираната информация за движението на обществения транспорт в реално врем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360" y="1331640"/>
            <a:ext cx="9623520" cy="12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7: Облагородяване на спирки на обществения транспо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4960" y="2668680"/>
            <a:ext cx="962352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7000"/>
          </a:bodyPr>
          <a:p>
            <a:pPr marL="438840" indent="-4388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Обновяване на знаковото стопанств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Поставяне на информационни табели с разписан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Обособяване на нови уширения за спиране („джобове“), подобряване геометрията на съществуващи такива и изместване на спирк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Подобряване организацията на движението – поставяне на хоризонтална маркировка и очертаване на пешеходни пътек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00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Рехабилитация на тротоари в района на спирките, монтиране на електрически стълбове, изграждане на помещения за отдих и тоалетни на крайни спирк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Sylfaen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8:49:53Z</dcterms:created>
  <dc:creator>MadzhirskiV</dc:creator>
  <dc:description/>
  <dc:language>en-US</dc:language>
  <cp:lastModifiedBy>PetrusenkoR</cp:lastModifiedBy>
  <dcterms:modified xsi:type="dcterms:W3CDTF">2012-08-17T13:07:35Z</dcterms:modified>
  <cp:revision>95</cp:revision>
  <dc:subject/>
  <dc:title>Pleven IUTP</dc:title>
</cp:coreProperties>
</file>