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74A-45DF-4A73-B9D0-AA0B016D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963000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720" y="4803840"/>
            <a:ext cx="963000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9F9-3FD3-42A3-9862-04C7FCB7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1720" y="48038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6240" y="48038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2DB9-F176-465A-9807-A180D6B4A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920" y="26636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3760" y="26636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720" y="48038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920" y="48038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3760" y="4803840"/>
            <a:ext cx="31006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B1A-316B-4E8A-B89B-CEAB4F36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1720" y="2663640"/>
            <a:ext cx="963000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769-9EDC-4E5C-B144-9519E37A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963000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5D6-E2EF-4449-9F6A-324CD573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7FE-90D7-40C4-A926-F00FA2BE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2E7-D0A1-401E-818F-BDF5ACAA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5760" y="1245960"/>
            <a:ext cx="962676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CED-FBCC-4AA5-8A80-9D635C7F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1720" y="48038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39B-BF30-403F-82F2-B77B96E0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6240" y="48038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BD87-6D77-4BD0-A083-A7C6EADF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172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240" y="2663640"/>
            <a:ext cx="469908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1720" y="4803840"/>
            <a:ext cx="9630000" cy="1954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C3A-8EDD-478C-8F9D-8C3BE96A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1720" y="2663640"/>
            <a:ext cx="9630000" cy="4097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6000"/>
          </a:bodyPr>
          <a:p>
            <a:pPr marL="348840" indent="-34884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2894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61000" indent="-232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24320" indent="-2300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0894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0894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0894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1720" y="6891120"/>
            <a:ext cx="2500560" cy="523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bg-BG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6160" y="6891120"/>
            <a:ext cx="3381120" cy="523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bg-BG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1160" y="6891120"/>
            <a:ext cx="2500560" cy="523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bg-BG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34DE2-3F62-450C-837D-C956CED34C88}" type="slidenum">
              <a:rPr b="0" lang="bg-BG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0280" y="1482480"/>
            <a:ext cx="9588240" cy="1616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700" spc="-1" strike="noStrike" u="sng">
                <a:solidFill>
                  <a:srgbClr val="0a4600"/>
                </a:solidFill>
                <a:uFillTx/>
                <a:latin typeface="Sylfaen"/>
              </a:rPr>
              <a:t>Модернизация и изграждане на устойчив градски транспорт в град Пловдив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95480" y="3205080"/>
          <a:ext cx="8429400" cy="3097440"/>
        </p:xfrm>
        <a:graphic>
          <a:graphicData uri="http://schemas.openxmlformats.org/drawingml/2006/table">
            <a:tbl>
              <a:tblPr/>
              <a:tblGrid>
                <a:gridCol w="4213080"/>
                <a:gridCol w="4216320"/>
              </a:tblGrid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44 306 947 л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41 463 596 л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 843 351 л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1361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r>
                        <a:rPr b="0" i="1" lang="bg-BG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.07.201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36 месе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36720"/>
                          <a:tab algn="l" pos="1873080"/>
                          <a:tab algn="l" pos="2809800"/>
                          <a:tab algn="l" pos="3746520"/>
                          <a:tab algn="l" pos="4683240"/>
                          <a:tab algn="l" pos="5619600"/>
                          <a:tab algn="l" pos="6556320"/>
                          <a:tab algn="l" pos="7493040"/>
                          <a:tab algn="l" pos="8429760"/>
                          <a:tab algn="l" pos="9366120"/>
                          <a:tab algn="l" pos="10302840"/>
                        </a:tabLst>
                      </a:pPr>
                      <a:r>
                        <a:rPr b="1" lang="en-US" sz="20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0" marR="936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1720" y="2555640"/>
            <a:ext cx="9630000" cy="4205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5000"/>
          </a:bodyPr>
          <a:p>
            <a:pPr marL="345240" indent="0">
              <a:lnSpc>
                <a:spcPct val="120000"/>
              </a:lnSpc>
              <a:spcBef>
                <a:spcPts val="575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Главната цел</a:t>
            </a:r>
            <a:r>
              <a:rPr b="1" lang="bg-BG" sz="23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е насърчаване на използването на устойчиви начини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на транспор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52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Социално-икономически цели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одобряване нивото на обслужване и надеждността на обществената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транспортна система на г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ривличане на пътници от ЛМПС към устойчиви начини на тран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амаляване на вредните емисии, по-специално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  <a:ea typeface="Times New Roman"/>
              </a:rPr>
              <a:t>CO2, NO2, PM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амаляване времето за придвижване с 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одобряване на безопасност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5040" indent="-53496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одобряване на достъпността за лицата с увреждания до обществения транспор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49280" y="1549080"/>
            <a:ext cx="9624960" cy="857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45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0200" y="147744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4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09280" y="2986200"/>
            <a:ext cx="9363240" cy="3603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3600" indent="-36360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en-US" sz="27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en-US" sz="2700" spc="-1" strike="noStrike">
                <a:solidFill>
                  <a:srgbClr val="0a4600"/>
                </a:solidFill>
                <a:latin typeface="Sylfaen"/>
              </a:rPr>
              <a:t>Система за управление на градския транспорт (СУГТ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</a:t>
            </a:r>
            <a:r>
              <a:rPr b="1" lang="en-US" sz="27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en-US" sz="2700" spc="-1" strike="noStrike">
                <a:solidFill>
                  <a:srgbClr val="0a4600"/>
                </a:solidFill>
                <a:latin typeface="Sylfaen"/>
              </a:rPr>
              <a:t>Светофари и контро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</a:t>
            </a:r>
            <a:r>
              <a:rPr b="1" lang="en-US" sz="27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en-US" sz="2700" spc="-1" strike="noStrike">
                <a:solidFill>
                  <a:srgbClr val="0a4600"/>
                </a:solidFill>
                <a:latin typeface="Sylfaen"/>
              </a:rPr>
              <a:t>Велосипедни але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675"/>
              </a:spcBef>
              <a:buSzPct val="102833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</a:t>
            </a:r>
            <a:r>
              <a:rPr b="1" lang="en-US" sz="27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en-US" sz="2700" spc="-1" strike="noStrike">
                <a:solidFill>
                  <a:srgbClr val="0a4600"/>
                </a:solidFill>
                <a:latin typeface="Sylfaen"/>
              </a:rPr>
              <a:t>Проучване за планиране на градския транспорт</a:t>
            </a:r>
            <a:r>
              <a:rPr b="0" lang="en-US" sz="27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Система за управление на градския транспорт (СУГТ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1720" y="2485800"/>
            <a:ext cx="9630000" cy="4894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0000"/>
          </a:bodyPr>
          <a:p>
            <a:pPr marL="32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200" spc="-1" strike="noStrike" u="sng">
                <a:solidFill>
                  <a:srgbClr val="0a4600"/>
                </a:solidFill>
                <a:uFillTx/>
                <a:latin typeface="Sylfaen"/>
              </a:rPr>
              <a:t>1. </a:t>
            </a: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Система за електронно таксуване на пътниц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Бек офи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Автобусно оборудване (валидатори, автомати за продажба на билети, бордови трансмитери, електронни информационни табл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Автомати за продажба на билети на спирките и на закрити мес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Клиентска медия (чип карт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Кондукторско оборудване (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ръчни портативни контролни устройств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Общи разходи по въвеждане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(инсталиране, тестване, интегриране на системата със съществуващите, обучение на персонала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72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200" spc="-1" strike="noStrike" u="sng">
                <a:solidFill>
                  <a:srgbClr val="0a4600"/>
                </a:solidFill>
                <a:uFillTx/>
                <a:latin typeface="Sylfaen"/>
              </a:rPr>
              <a:t>2. </a:t>
            </a: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Система за управление на автомобилния парк и информация за пътницит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Информ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ационни </a:t>
            </a: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панели на спирк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Оборудване на депото (трансмитер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44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lfaen"/>
              </a:rPr>
              <a:t>Бек офис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за управление на автопарка, включващ Централен Сървър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bg-BG" sz="40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i="1" lang="bg-BG" sz="4000" spc="-1" strike="noStrike" u="sng">
                <a:solidFill>
                  <a:srgbClr val="000000"/>
                </a:solidFill>
                <a:uFillTx/>
                <a:latin typeface="Sylfaen"/>
              </a:rPr>
              <a:t>: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4000" spc="-1" strike="noStrike" u="sng">
                <a:solidFill>
                  <a:srgbClr val="000000"/>
                </a:solidFill>
                <a:uFillTx/>
                <a:latin typeface="Sylfaen"/>
              </a:rPr>
              <a:t>Светофари и контрол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1720" y="2266920"/>
            <a:ext cx="9630000" cy="5113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4000"/>
          </a:bodyPr>
          <a:p>
            <a:pPr marL="341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1. Център за управление на трафика (ЦУТ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системeн сървър и бекъп сървъ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софтуер за наблюдение  и адаптивно управление на траф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работни станции с „data/move” – клавиатури за CCTV камер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видео ст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офис оборуд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UPS за защита от токови уда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лиматична система и системи за охлаждане  на ел. оборудване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пожароизвестителна и пожарогасителна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bg-BG" sz="2000" spc="-1" strike="noStrike">
                <a:solidFill>
                  <a:srgbClr val="000000"/>
                </a:solidFill>
                <a:latin typeface="Arial"/>
              </a:rPr>
              <a:t>Ще бъде осъществено свързване на всички кръстовища в контролираната зона с центъра за управление на трафика (ЦУТ) през UMTS/HSPDA (3G) или LTE (4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2. Кръстовищ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ови контролери инсталирани на всички кръстовища на контролираната з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33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Трафик детектори (Loop Detectors) на стратегически ме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: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Светофари и контрол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1720" y="2197080"/>
            <a:ext cx="9630000" cy="4967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9000"/>
          </a:bodyPr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Възможност за предоставяне на предимство на превозни средства на градския транспорт ОТ чрез система за автоматично локализиране на превозните средства (AVL – Аutomatic Vehicle Loca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Светофарни дисплеи за обратно отброяване на времето за светофарите за пешеход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CCTV камери за наблюдение на условията за движение от Центъра за управление на т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Замяна на всички светофари в контролираната зона с устройства, базирани на LED техно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Корекция на режимите на сигнализация и, ако е необходимо, на „оформлението” на някои кръст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Осигуряване на достъп за пешеходци със затруднена мобилност, включително чрез корекции на тротоара на пешеходната пътека и звукови сигнали за хора с увредено з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3. Бордово оборудване (трансмитер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200" spc="-1" strike="noStrike" u="sng">
                <a:solidFill>
                  <a:srgbClr val="0a4600"/>
                </a:solidFill>
                <a:uFillTx/>
                <a:latin typeface="Sylfaen"/>
              </a:rPr>
              <a:t>4. Проучване на трафик сигнализацията</a:t>
            </a: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Sylfaen"/>
              </a:rPr>
              <a:t>с цел оптимизиране схемите и оптимално използване на възможностите на систем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96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0200" y="1115640"/>
            <a:ext cx="962532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Велосипедни алеи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22400" y="1979640"/>
            <a:ext cx="84265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Велосипедни алеи (2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1720" y="2266920"/>
            <a:ext cx="9630000" cy="4897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9000"/>
          </a:bodyPr>
          <a:p>
            <a:pPr marL="359640" indent="-359640" algn="just">
              <a:lnSpc>
                <a:spcPct val="80000"/>
              </a:lnSpc>
              <a:spcBef>
                <a:spcPts val="476"/>
              </a:spcBef>
              <a:buSzPct val="102792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000" spc="-1" strike="noStrike" u="sng">
                <a:solidFill>
                  <a:srgbClr val="0a4600"/>
                </a:solidFill>
                <a:uFillTx/>
                <a:latin typeface="Sylfaen"/>
              </a:rPr>
              <a:t>Етап 1: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Изпълнение на вече проектирани маршрути (включително извършване на подобрения на съществуващите такива), разширяване на мрежата на север по бул. „България” през бул. „Васил Априлов” и предоставяне на по-улеснен достъп до центъра на града чрез бул. „Руски”. На този етап ще добавят 13,4 км нови велоалеи.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76"/>
              </a:spcBef>
              <a:buSzPct val="102792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000" spc="-1" strike="noStrike" u="sng">
                <a:solidFill>
                  <a:srgbClr val="0a4600"/>
                </a:solidFill>
                <a:uFillTx/>
                <a:latin typeface="Sylfaen"/>
              </a:rPr>
              <a:t>Етап 2: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Разширяване на мрежата на запад, чрез свързване на тази,  изградена в  Етап 1 с бул. „Пещерско шосе” през бул. „Копривщица”, и разширяване на юг, включително в посока бул. „Никола Вапцаров”, ул. „Акад. Петър Динеков”, ул.„Калиакра” и ул. „Македония” (или 11,5 км допълнителни велосипедни лен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9640" indent="-359640" algn="just">
              <a:lnSpc>
                <a:spcPct val="80000"/>
              </a:lnSpc>
              <a:spcBef>
                <a:spcPts val="476"/>
              </a:spcBef>
              <a:buSzPct val="102792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bg-BG" sz="2000" spc="-1" strike="noStrike" u="sng">
                <a:solidFill>
                  <a:srgbClr val="0a4600"/>
                </a:solidFill>
                <a:uFillTx/>
                <a:latin typeface="Sylfaen"/>
              </a:rPr>
              <a:t>Етап 3:</a:t>
            </a:r>
            <a:r>
              <a:rPr b="0" lang="bg-BG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о-нататъшно разширяване на вече съществуващите маршрути в района на ж.к. „Тракия”, както и по бул. „Марица-юг” в източна посока ( или 12,2 км допълнителни велосипедни лен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bg-BG" sz="1500" spc="-1" strike="noStrike">
                <a:solidFill>
                  <a:srgbClr val="000000"/>
                </a:solidFill>
                <a:latin typeface="Sylfaen"/>
              </a:rPr>
              <a:t>Велосипедната мрежа ще включва съоръжения за безплатен паркинг на ключови места, където сигурността е гарантирана, като училища, обществени сгради, големи предприятия и др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964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0" lang="bg-BG" sz="1500" spc="-1" strike="noStrike">
                <a:solidFill>
                  <a:srgbClr val="000000"/>
                </a:solidFill>
                <a:latin typeface="Sylfaen"/>
              </a:rPr>
              <a:t>Компонентът включва също и изработването на проект за цялата велосипедна мрежа, който ще преразглежда и коригира и съществуващите вече алеи, ако е необходимо, за да се гарантира единността на спецификациит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5760" y="1245960"/>
            <a:ext cx="9626760" cy="126036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 Проучване за планиране на градския транспор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1720" y="2485800"/>
            <a:ext cx="9630000" cy="467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7000"/>
          </a:bodyPr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роучване за оптимизация на мрежата на обществения транспорт, като се използват възможностите, предлагани от прилагането на СУГТ. Веднъж влязла в експлоатация, СУГТ ще осигурява данни от системата за електронно таксуване и системата за управление на автопарка, които могат да бъдат ефективно използвани за планирането на системата на О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въз основа на горните данни могат да бъдат предвиждани, според необходимостта, промени в структурата на тарифите, да се анализира приемането им от потребителите на ОT и техния възможен ефект върху действието на О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стратегия по отношение на бъдещи договори с операторите в сектора на обществения транспорт и изготвяне на актуализирани такива, когато съществуващите изтека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роучване на възможностите за обновяване на подвижния съста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реразглеждане на възможните мерки и политики за управление на трафи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6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реразглеждане на опциите, анализирани по текущата ОПРР, но не включени в настоящия проект, поради липса на зрялост на условия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80000"/>
              </a:lnSpc>
              <a:spcBef>
                <a:spcPts val="476"/>
              </a:spcBef>
              <a:buSzPct val="102985"/>
              <a:buBlip>
                <a:blip r:embed="rId7"/>
              </a:buBlip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Sylfaen"/>
              </a:rPr>
              <a:t>подготовка и планиране за следващия програмен период на ОПРР, чрез определяне на средносрочни и дългосрочни цел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0:26:33Z</dcterms:created>
  <dc:creator>VVasileva</dc:creator>
  <dc:description/>
  <dc:language>en-US</dc:language>
  <cp:lastModifiedBy>PetrusenkoR</cp:lastModifiedBy>
  <dcterms:modified xsi:type="dcterms:W3CDTF">2012-08-17T13:07:28Z</dcterms:modified>
  <cp:revision>29</cp:revision>
  <dc:subject/>
  <dc:title>Plovdiv IUTP</dc:title>
</cp:coreProperties>
</file>