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0D7-5989-48F8-AB9D-19262F2B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720" y="48038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21D-E577-47A3-B96D-1811E05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303-F6A9-4FC0-8A86-7C89DC6A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376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72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376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ED5-E7DB-4FD7-A9CA-E97F70E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175-2704-4167-9BCC-6684B3A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C74-AD23-4CCD-91EF-BBED88C4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2BB-FD62-415D-A3A8-A3A3F17D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F19-87B2-4998-B69F-966CE11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5760" y="1245960"/>
            <a:ext cx="96267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EE5-03AC-4E58-85A6-57E0458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B8D-57EF-418D-9C51-B4F5506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EB2-7A05-4345-9E10-1BE1896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DAE-AA61-473F-B9A3-A9557732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6000"/>
          </a:bodyPr>
          <a:p>
            <a:pPr marL="348840" indent="-3488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61000" indent="-232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2432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1720" y="6891120"/>
            <a:ext cx="250056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6160" y="6891120"/>
            <a:ext cx="338112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1160" y="6891120"/>
            <a:ext cx="250056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C8F7E-F89A-4212-B7EA-7595B84F6836}" type="slidenum">
              <a:rPr b="0" lang="bg-BG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1482480"/>
            <a:ext cx="9588240" cy="161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700" spc="-1" strike="noStrike" u="sng">
                <a:solidFill>
                  <a:srgbClr val="0a4600"/>
                </a:solidFill>
                <a:uFillTx/>
                <a:latin typeface="Sylfaen"/>
              </a:rPr>
              <a:t>Модернизация и изграждане на устойчив градски транспорт в град Пловди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95480" y="3205080"/>
          <a:ext cx="8429400" cy="3097440"/>
        </p:xfrm>
        <a:graphic>
          <a:graphicData uri="http://schemas.openxmlformats.org/drawingml/2006/table">
            <a:tbl>
              <a:tblPr/>
              <a:tblGrid>
                <a:gridCol w="4213080"/>
                <a:gridCol w="4216320"/>
              </a:tblGrid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4 306 947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1 463 596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 843 351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.07.201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1720" y="2555640"/>
            <a:ext cx="9630000" cy="4205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5000"/>
          </a:bodyPr>
          <a:p>
            <a:pPr marL="34524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 насърчаване на използването на устойчиви начини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 транспор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52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 цел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ивото на обслужване и надеждността на обществената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транспортна система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ривличане на пътници от ЛМПС към устойчиви начини на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маляване на вредните емисии, по-специално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  <a:ea typeface="Times New Roman"/>
              </a:rPr>
              <a:t>CO2, NO2, PM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маляване времето за придвижване с 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а безопасност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а достъпността за лицата с увреждания до обществения транспор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49280" y="1549080"/>
            <a:ext cx="9624960" cy="85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45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0200" y="147744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4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9280" y="2986200"/>
            <a:ext cx="9363240" cy="3603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Система за управление на градския транспорт (СУГТ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Светофари и контро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Велосипедни але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Проучване за планиране на градския транспорт</a:t>
            </a:r>
            <a:r>
              <a:rPr b="0" lang="en-US" sz="27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Система за управление на градския транспорт (СУГТ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1720" y="2485800"/>
            <a:ext cx="9630000" cy="4894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0000"/>
          </a:bodyPr>
          <a:p>
            <a:pPr marL="32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200" spc="-1" strike="noStrike" u="sng">
                <a:solidFill>
                  <a:srgbClr val="0a4600"/>
                </a:solidFill>
                <a:uFillTx/>
                <a:latin typeface="Sylfaen"/>
              </a:rPr>
              <a:t>1. </a:t>
            </a: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Система за електронно таксуване на пътниц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Бек офи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Автобусно оборудване (валидатори, автомати за продажба на билети, бордови трансмитери, електронни информационни табл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Автомати за продажба на билети на спирките и на закрити мес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Клиентска медия (чип кар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Кондукторско оборудване (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ръчни портативни контролни устрой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Общи разходи по въвеждане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(инсталиране, тестване, интегриране на системата със съществуващите, обучение на персонала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72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200" spc="-1" strike="noStrike" u="sng">
                <a:solidFill>
                  <a:srgbClr val="0a4600"/>
                </a:solidFill>
                <a:uFillTx/>
                <a:latin typeface="Sylfaen"/>
              </a:rPr>
              <a:t>2. </a:t>
            </a: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Система за управление на автомобилния парк и информация за пътници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Информ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ационни 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анели на спирк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Оборудване на депото (трансмите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Бек офис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за управление на автопарка, включващ Централен Сървъ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Светофари и контрол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1720" y="2266920"/>
            <a:ext cx="9630000" cy="5113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4000"/>
          </a:bodyPr>
          <a:p>
            <a:pPr marL="341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1. Център за управление на трафика (ЦУ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истемeн сървър и бекъп сървъ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офтуер за наблюдение  и адаптивно управление на т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работни станции с „data/move” – клавиатури за CCTV камер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видео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офис оборуд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UPS за защита от токови уда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лиматична система и системи за охлаждане  на ел. оборудван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жароизвестителна и пожарогасителн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Ще бъде осъществено свързване на всички кръстовища в контролираната зона с центъра за управление на трафика (ЦУТ) през UMTS/HSPDA (3G) или LTE (4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2. Кръстови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ови контролери инсталирани на всички кръстовища на контролираната з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Трафик детектори (Loop Detectors) на стратегически ме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Светофари и контрол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720" y="2197080"/>
            <a:ext cx="9630000" cy="4967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9000"/>
          </a:bodyPr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ъзможност за предоставяне на предимство на превозни средства на градския транспорт ОТ чрез система за автоматично локализиране на превозните средства (AVL – Аutomatic Vehicle Loca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ветофарни дисплеи за обратно отброяване на времето за светофарите за пешеход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CCTV камери за наблюдение на условията за движение от Центъра за управление на т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Замяна на всички светофари в контролираната зона с устройства, базирани на LED техно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Корекция на режимите на сигнализация и, ако е необходимо, на „оформлението” на някои кръст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сигуряване на достъп за пешеходци със затруднена мобилност, включително чрез корекции на тротоара на пешеходната пътека и звукови сигнали за хора с увредено з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3. Бордово оборудване (трансмите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4. Проучване на трафик сигнализацият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с цел оптимизиране схемите и оптимално използване на възможностите на систем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0200" y="1115640"/>
            <a:ext cx="962532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елосипедни алеи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2400" y="1979640"/>
            <a:ext cx="84265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елосипедни алеи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720" y="2266920"/>
            <a:ext cx="9630000" cy="489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9000"/>
          </a:bodyPr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1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Изпълнение на вече проектирани маршрути (включително извършване на подобрения на съществуващите такива), разширяване на мрежата на север по бул. „България” през бул. „Васил Априлов” и предоставяне на по-улеснен достъп до центъра на града чрез бул. „Руски”. На този етап ще добавят 13,4 км нови велоалеи.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2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Разширяване на мрежата на запад, чрез свързване на тази,  изградена в  Етап 1 с бул. „Пещерско шосе” през бул. „Копривщица”, и разширяване на юг, включително в посока бул. „Никола Вапцаров”, ул. „Акад. Петър Динеков”, ул.„Калиакра” и ул. „Македония” (или 11,5 км допълнителни велосипедни лен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3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о-нататъшно разширяване на вече съществуващите маршрути в района на ж.к. „Тракия”, както и по бул. „Марица-юг” в източна посока ( или 12,2 км допълнителни велосипедни лен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Велосипедната мрежа ще включва съоръжения за безплатен паркинг на ключови места, където сигурността е гарантирана, като училища, обществени сгради, големи предприятия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Компонентът включва също и изработването на проект за цялата велосипедна мрежа, който ще преразглежда и коригира и съществуващите вече алеи, ако е необходимо, за да се гарантира единността на спецификациит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Проучване за планиране на градския транспо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1720" y="2485800"/>
            <a:ext cx="9630000" cy="467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7000"/>
          </a:bodyPr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оучване за оптимизация на мрежата на обществения транспорт, като се използват възможностите, предлагани от прилагането на СУГТ. Веднъж влязла в експлоатация, СУГТ ще осигурява данни от системата за електронно таксуване и системата за управление на автопарка, които могат да бъдат ефективно използвани за планирането на системата на О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въз основа на горните данни могат да бъдат предвиждани, според необходимостта, промени в структурата на тарифите, да се анализира приемането им от потребителите на ОT и техния възможен ефект върху действието на О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стратегия по отношение на бъдещи договори с операторите в сектора на обществения транспорт и изготвяне на актуализирани такива, когато съществуващите изтек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оучване на възможностите за обновяване на подвижния съста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еразглеждане на възможните мерки и политики за управление на трафи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еразглеждане на опциите, анализирани по текущата ОПРР, но не включени в настоящия проект, поради липса на зрялост на условия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одготовка и планиране за следващия програмен период на ОПРР, чрез определяне на средносрочни и дългосрочни це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28Z</dcterms:modified>
  <cp:revision>29</cp:revision>
  <dc:subject/>
  <dc:title>Plovdiv IUTP</dc:title>
</cp:coreProperties>
</file>