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0CA-2419-42BB-A794-E44AC6AD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ECC-54ED-45E9-BD9D-0D14DABB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EE8-6B43-4D76-9AFC-968AA393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9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5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9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FAFB-1BEC-4895-943E-622ED457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741-DF9F-4A1F-8605-4872B83C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CF9-034A-4AEC-A1B3-F9FF703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90C-640A-4CB5-8AEF-3111770F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599-5DD6-4294-BD06-E3D42C8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5960"/>
            <a:ext cx="96220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33A-ECE4-4965-9F9F-DD590915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B82-9054-4671-AB20-4E33A7B8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AF7-3159-4CDA-B9E1-439573F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B83-58D7-41A8-8D18-8037702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1640" cy="14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0000"/>
          </a:bodyPr>
          <a:p>
            <a:pPr marL="351360" indent="-351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294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5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340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968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9680"/>
            <a:ext cx="33861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0800" y="6889680"/>
            <a:ext cx="24973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C9FCC197-E4BC-458F-8A0E-F4C74FD43417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1547280"/>
            <a:ext cx="908856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ru-RU" sz="3600" spc="-1" strike="noStrike" u="sng">
                <a:solidFill>
                  <a:srgbClr val="0a4600"/>
                </a:solidFill>
                <a:uFillTx/>
                <a:latin typeface="Sylfaen"/>
              </a:rPr>
              <a:t>Модернизация и развитие на устойчив градски транспорт в град Стара Загора</a:t>
            </a:r>
            <a:r>
              <a:rPr b="0" lang="bg-BG" sz="5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52560" y="3132000"/>
          <a:ext cx="8642160" cy="3792600"/>
        </p:xfrm>
        <a:graphic>
          <a:graphicData uri="http://schemas.openxmlformats.org/drawingml/2006/table">
            <a:tbl>
              <a:tblPr/>
              <a:tblGrid>
                <a:gridCol w="5668920"/>
                <a:gridCol w="297324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8 903 503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4 643 458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 260 045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5.07.2012 г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"Tролейбусни</a:t>
                      </a:r>
                      <a:r>
                        <a:rPr b="0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</a:t>
                      </a:r>
                      <a:r>
                        <a:rPr b="0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превози“ ООД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560" y="1476000"/>
            <a:ext cx="9622080" cy="1582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Въвеждане </a:t>
            </a:r>
            <a:br>
              <a:rPr sz="3500"/>
            </a:b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на информационна система (телематика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3492360"/>
            <a:ext cx="9624960" cy="3672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централа (осигуряване на офис, системи за сигурност, генератор на електричество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офту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оборудване за подвижния състав (приблизително 90 тролейбуси и автобус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електронни информационни табла, подаващи информация в реално време, на всички спирки на ГТ (119 на бр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0560" y="1258920"/>
            <a:ext cx="9622080" cy="78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55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: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266920"/>
            <a:ext cx="9624960" cy="4826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520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е насърчаване на използването на устойчиви начини на транспор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 цел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Създаване на по-бърз и по-ефективен обществен транспорт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(OT) 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с по-малък разход на енерг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Увеличаване на привлекателността и степента на използване н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функционалността в града в рамките на общината и подобряване на мобилността на населениет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Намаляване на задръстванията на трафика и повишаване на възможностите з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достъпността за хора с увреждания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мобилността на населението чрез насърчаване на устойчиви/щадящи околната среда видове транспор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0920" indent="-5209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одобряване на безопасността и достъпа за пешеходци и потребителите на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OT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7560" y="1246320"/>
            <a:ext cx="9622080" cy="1164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40920" y="2484000"/>
            <a:ext cx="8904600" cy="4383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Закупуване на нови тролейбус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Поддръжка на тролейбусната мреж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Изграждане на велоале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lang="bg-BG" sz="25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Интервенции в пътната мреж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Рехабилитация на спирките за обществен транспор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Въвеждане на информационна система (телематик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0560" y="1547640"/>
            <a:ext cx="962208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Закупуване на нови тролей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4000" y="3203640"/>
            <a:ext cx="9275760" cy="3168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6000"/>
          </a:bodyPr>
          <a:p>
            <a:pPr marL="374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000" spc="-1" strike="noStrike">
                <a:solidFill>
                  <a:srgbClr val="0a4600"/>
                </a:solidFill>
                <a:latin typeface="Sylfaen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одмяна на 14 тролейбусни коли на възраст над 24 години с нови със следните характерист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ископод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есъчлен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 три в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9960" indent="-42984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набдени с рампа за пътници в инвалидни колички.</a:t>
            </a:r>
            <a:r>
              <a:rPr b="1" lang="en-US" sz="2400" spc="-1" strike="noStrike">
                <a:solidFill>
                  <a:srgbClr val="0a4600"/>
                </a:solidFill>
                <a:latin typeface="Sylfae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7560" y="1402920"/>
            <a:ext cx="9622080" cy="1297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Поддръжка на тролейбусната мрежа (1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771640"/>
            <a:ext cx="9624960" cy="4321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M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одернизация и поддръжка на 7 участъка от тролейбусната мрежа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инсталира</a:t>
            </a: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не на</a:t>
            </a: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 нови тролейбусни стрелки с дистанционно управление, нови кръстовки, секторни изолатори и компенсатор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изолационните възли на конзол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носещата и фиксираща мрежа с материали, неподлежащи на корозия и защита от корозия на стълбовете и конзоли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подмяна на контактния провод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2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Sylfaen"/>
              </a:rPr>
              <a:t>Закупуване на специализиран автомобил за ремонт и поддръжка на В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51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автомобилът ще бъде снабден с изолирана платформа за работа с хидравлично повдигане и завърт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560" y="1332000"/>
            <a:ext cx="962208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Поддръжка на тролейбусната мрежа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(2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3131640"/>
            <a:ext cx="9624960" cy="403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3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Рехабилитация на токоизправителни станции (ТИС )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lfaen"/>
              </a:rPr>
              <a:t>1, 2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защита от пренатоварвания и от късо съедин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рехабилитация на сервомоторите за зареждане на маломаслени прекъсв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a4600"/>
                </a:solidFill>
                <a:latin typeface="Sylfaen"/>
              </a:rPr>
              <a:t>осигуряване на сигнализация за защита на токоизправителя от  пробив на диод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 startAt="4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Рехабилитация на депо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закупуване на нови машини за обслужване на тролейбусния па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5302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a4600"/>
                </a:solidFill>
                <a:latin typeface="Sylfaen"/>
              </a:rPr>
              <a:t>основен ремонт на автомивката за тролейбуси и ремонт на битовите 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Изграждане на велоалеи</a:t>
            </a:r>
            <a:r>
              <a:rPr b="1" i="1" lang="bg-BG" sz="44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0200" y="2771280"/>
            <a:ext cx="3876840" cy="4248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528840" indent="-528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мрежата от велоале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ще свързва централната част на Стара Загора с основни райони, парк „Бедечка” и новия парк в Сама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840" indent="-528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840" indent="-528840">
              <a:lnSpc>
                <a:spcPct val="8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ща дължина на велоалеите: приблизително 7,8 км.</a:t>
            </a:r>
            <a:r>
              <a:rPr b="1" lang="bg-BG" sz="18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3"/>
          <a:stretch/>
        </p:blipFill>
        <p:spPr>
          <a:xfrm>
            <a:off x="4554360" y="2700360"/>
            <a:ext cx="5832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7280" y="1692000"/>
            <a:ext cx="7607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Интервенции в пътната мреж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69640" y="320364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зграждане на 80 рампи (59 двойни и 21 единични) към тротоарите на главните кръстовища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 цел да се подобри достъпа до спирките на ГТ и мобилността като цяло за хората с увреж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ставяне на необходимите бариери и знац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хоризонтална маркировка приблизително върху 14,400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Sylfae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25640" y="1618920"/>
            <a:ext cx="792000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Рехабилитация на спирките за О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70000" y="3203280"/>
            <a:ext cx="8352000" cy="3771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зграждане на 12 отбивки (“джобове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монтиране на 104 обозначителни табе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3 спиркови нав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4 пе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01Z</dcterms:modified>
  <cp:revision>46</cp:revision>
  <dc:subject/>
  <dc:title>SZ IUTP</dc:title>
</cp:coreProperties>
</file>