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691813" cy="7559675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728C-4C48-4429-BC92-4DA4EF5E6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47560" y="1245960"/>
            <a:ext cx="9622080" cy="1260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663640"/>
            <a:ext cx="962496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4803120"/>
            <a:ext cx="962496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40E1-0159-4833-8A62-4CC6DA91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47560" y="1245960"/>
            <a:ext cx="9622080" cy="1260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2663640"/>
            <a:ext cx="469692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65520" y="2663640"/>
            <a:ext cx="469692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4803120"/>
            <a:ext cx="469692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65520" y="4803120"/>
            <a:ext cx="469692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5940-F6E8-48BE-8DEA-1D69CFB94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47560" y="1245960"/>
            <a:ext cx="9622080" cy="1260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663640"/>
            <a:ext cx="309888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87560" y="2663640"/>
            <a:ext cx="309888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41960" y="2663640"/>
            <a:ext cx="309888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4803120"/>
            <a:ext cx="309888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87560" y="4803120"/>
            <a:ext cx="309888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41960" y="4803120"/>
            <a:ext cx="309888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7150-FBC5-4FF1-9989-0DE19B252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47560" y="1245960"/>
            <a:ext cx="9622080" cy="1260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2663640"/>
            <a:ext cx="962496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A693-D142-478A-AB6F-C6C4EFC0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47560" y="1245960"/>
            <a:ext cx="9622080" cy="1260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2663640"/>
            <a:ext cx="9624960" cy="4095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F4B7-032B-46A8-BDA8-507AF042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47560" y="1245960"/>
            <a:ext cx="9622080" cy="1260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2663640"/>
            <a:ext cx="4696920" cy="4095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65520" y="2663640"/>
            <a:ext cx="4696920" cy="4095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AA05-6C34-4761-B3C9-E5E0C1EF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7560" y="1245960"/>
            <a:ext cx="9622080" cy="1260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2412-5A5C-4DAD-93D5-20571CAE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47560" y="1245960"/>
            <a:ext cx="96220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1E47-9A5A-46DD-8EAA-9376B173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47560" y="1245960"/>
            <a:ext cx="9622080" cy="1260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2663640"/>
            <a:ext cx="469692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65520" y="2663640"/>
            <a:ext cx="4696920" cy="4095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4803120"/>
            <a:ext cx="469692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29F0-41B0-4C64-875E-EDF28C2B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47560" y="1245960"/>
            <a:ext cx="9622080" cy="1260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2663640"/>
            <a:ext cx="4696920" cy="4095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65520" y="2663640"/>
            <a:ext cx="469692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65520" y="4803120"/>
            <a:ext cx="469692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FFF4-AD2D-401D-A912-72329ADF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47560" y="1245960"/>
            <a:ext cx="9622080" cy="1260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663640"/>
            <a:ext cx="469692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65520" y="2663640"/>
            <a:ext cx="469692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803120"/>
            <a:ext cx="962496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6C08-875E-4E82-8F2D-2731D906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5-te grada"/>
          <p:cNvPicPr/>
          <p:nvPr/>
        </p:nvPicPr>
        <p:blipFill>
          <a:blip r:embed="rId2"/>
          <a:stretch/>
        </p:blipFill>
        <p:spPr>
          <a:xfrm>
            <a:off x="0" y="0"/>
            <a:ext cx="10691640" cy="1442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47560" y="1245960"/>
            <a:ext cx="9622080" cy="1260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2663640"/>
            <a:ext cx="9624960" cy="4095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0000"/>
          </a:bodyPr>
          <a:p>
            <a:pPr marL="351360" indent="-351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62840" indent="-2944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172880" indent="-2354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641600" indent="-23400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109960" indent="-23400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109960" indent="-23400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109960" indent="-23400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3520" y="6889680"/>
            <a:ext cx="249696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652920" y="6889680"/>
            <a:ext cx="338616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660800" y="6889680"/>
            <a:ext cx="249732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 algn="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  <a:defRPr b="0" lang="bg-BG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fld id="{B5BCA24F-CF75-4CB3-91E6-AD5C6F51E7D8}" type="slidenum">
              <a:rPr b="0" lang="bg-BG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09640" y="1547280"/>
            <a:ext cx="9088560" cy="1295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i="1" lang="ru-RU" sz="3600" spc="-1" strike="noStrike" u="sng">
                <a:solidFill>
                  <a:srgbClr val="0a4600"/>
                </a:solidFill>
                <a:uFillTx/>
                <a:latin typeface="Sylfaen"/>
              </a:rPr>
              <a:t>Модернизация и развитие на устойчив градски транспорт в град Стара Загора</a:t>
            </a:r>
            <a:r>
              <a:rPr b="0" lang="bg-BG" sz="5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952560" y="3132000"/>
          <a:ext cx="8642160" cy="3792600"/>
        </p:xfrm>
        <a:graphic>
          <a:graphicData uri="http://schemas.openxmlformats.org/drawingml/2006/table">
            <a:tbl>
              <a:tblPr/>
              <a:tblGrid>
                <a:gridCol w="5668920"/>
                <a:gridCol w="2973240"/>
              </a:tblGrid>
              <a:tr h="51732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1009800"/>
                          <a:tab algn="l" pos="2019240"/>
                          <a:tab algn="l" pos="3029040"/>
                          <a:tab algn="l" pos="4038480"/>
                          <a:tab algn="l" pos="5048280"/>
                          <a:tab algn="l" pos="6058080"/>
                          <a:tab algn="l" pos="7067520"/>
                          <a:tab algn="l" pos="8077320"/>
                          <a:tab algn="l" pos="9086760"/>
                          <a:tab algn="l" pos="1009656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Обща стойност на проект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a4600"/>
                          </a:solidFill>
                          <a:latin typeface="Sylfaen"/>
                        </a:rPr>
                        <a:t>28 903 503 л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1009800"/>
                          <a:tab algn="l" pos="2019240"/>
                          <a:tab algn="l" pos="3029040"/>
                          <a:tab algn="l" pos="4038480"/>
                          <a:tab algn="l" pos="5048280"/>
                          <a:tab algn="l" pos="6058080"/>
                          <a:tab algn="l" pos="7067520"/>
                          <a:tab algn="l" pos="8077320"/>
                          <a:tab algn="l" pos="9086760"/>
                          <a:tab algn="l" pos="1009656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Безвъзмездна финансова помощ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a4600"/>
                          </a:solidFill>
                          <a:latin typeface="Sylfaen"/>
                        </a:rPr>
                        <a:t>24 643 458 </a:t>
                      </a:r>
                      <a:r>
                        <a:rPr b="0" lang="bg-BG" sz="2400" spc="-1" strike="noStrike">
                          <a:solidFill>
                            <a:srgbClr val="0a4600"/>
                          </a:solidFill>
                          <a:latin typeface="Sylfaen"/>
                        </a:rPr>
                        <a:t>л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1009800"/>
                          <a:tab algn="l" pos="2019240"/>
                          <a:tab algn="l" pos="3029040"/>
                          <a:tab algn="l" pos="4038480"/>
                          <a:tab algn="l" pos="5048280"/>
                          <a:tab algn="l" pos="6058080"/>
                          <a:tab algn="l" pos="7067520"/>
                          <a:tab algn="l" pos="8077320"/>
                          <a:tab algn="l" pos="9086760"/>
                          <a:tab algn="l" pos="1009656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Собствен принос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a4600"/>
                          </a:solidFill>
                          <a:latin typeface="Sylfaen"/>
                        </a:rPr>
                        <a:t>4 260 045 </a:t>
                      </a:r>
                      <a:r>
                        <a:rPr b="0" lang="bg-BG" sz="2400" spc="-1" strike="noStrike">
                          <a:solidFill>
                            <a:srgbClr val="0a4600"/>
                          </a:solidFill>
                          <a:latin typeface="Sylfaen"/>
                        </a:rPr>
                        <a:t>л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  <a:tr h="89676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1009800"/>
                          <a:tab algn="l" pos="2019240"/>
                          <a:tab algn="l" pos="3029040"/>
                          <a:tab algn="l" pos="4038480"/>
                          <a:tab algn="l" pos="5048280"/>
                          <a:tab algn="l" pos="6058080"/>
                          <a:tab algn="l" pos="7067520"/>
                          <a:tab algn="l" pos="8077320"/>
                          <a:tab algn="l" pos="9086760"/>
                          <a:tab algn="l" pos="1009656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Дата на подписване на договор за безвъзмездна финансова помощ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9800"/>
                          <a:tab algn="l" pos="2019240"/>
                          <a:tab algn="l" pos="3029040"/>
                          <a:tab algn="l" pos="4038480"/>
                          <a:tab algn="l" pos="5048280"/>
                          <a:tab algn="l" pos="6058080"/>
                          <a:tab algn="l" pos="7067520"/>
                          <a:tab algn="l" pos="8077320"/>
                          <a:tab algn="l" pos="9086760"/>
                          <a:tab algn="l" pos="10096560"/>
                        </a:tabLst>
                      </a:pPr>
                      <a:r>
                        <a:rPr b="0" lang="en-US" sz="2400" spc="-1" strike="noStrike">
                          <a:solidFill>
                            <a:srgbClr val="0a4600"/>
                          </a:solidFill>
                          <a:latin typeface="Sylfaen"/>
                        </a:rPr>
                        <a:t>5.07.2012 г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1009800"/>
                          <a:tab algn="l" pos="2019240"/>
                          <a:tab algn="l" pos="3029040"/>
                          <a:tab algn="l" pos="4038480"/>
                          <a:tab algn="l" pos="5048280"/>
                          <a:tab algn="l" pos="6058080"/>
                          <a:tab algn="l" pos="7067520"/>
                          <a:tab algn="l" pos="8077320"/>
                          <a:tab algn="l" pos="9086760"/>
                          <a:tab algn="l" pos="1009656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Срок за изпълнение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9800"/>
                          <a:tab algn="l" pos="2019240"/>
                          <a:tab algn="l" pos="3029040"/>
                          <a:tab algn="l" pos="4038480"/>
                          <a:tab algn="l" pos="5048280"/>
                          <a:tab algn="l" pos="6058080"/>
                          <a:tab algn="l" pos="7067520"/>
                          <a:tab algn="l" pos="8077320"/>
                          <a:tab algn="l" pos="9086760"/>
                          <a:tab algn="l" pos="10096560"/>
                        </a:tabLst>
                      </a:pPr>
                      <a:r>
                        <a:rPr b="0" lang="en-US" sz="2400" spc="-1" strike="noStrike">
                          <a:solidFill>
                            <a:srgbClr val="0a4600"/>
                          </a:solidFill>
                          <a:latin typeface="Sylfaen"/>
                        </a:rPr>
                        <a:t>36 месе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1009800"/>
                          <a:tab algn="l" pos="2019240"/>
                          <a:tab algn="l" pos="3029040"/>
                          <a:tab algn="l" pos="4038480"/>
                          <a:tab algn="l" pos="5048280"/>
                          <a:tab algn="l" pos="6058080"/>
                          <a:tab algn="l" pos="7067520"/>
                          <a:tab algn="l" pos="8077320"/>
                          <a:tab algn="l" pos="9086760"/>
                          <a:tab algn="l" pos="1009656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Партньор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9800"/>
                          <a:tab algn="l" pos="2019240"/>
                          <a:tab algn="l" pos="3029040"/>
                          <a:tab algn="l" pos="4038480"/>
                          <a:tab algn="l" pos="5048280"/>
                          <a:tab algn="l" pos="6058080"/>
                          <a:tab algn="l" pos="7067520"/>
                          <a:tab algn="l" pos="8077320"/>
                          <a:tab algn="l" pos="9086760"/>
                          <a:tab algn="l" pos="10096560"/>
                        </a:tabLst>
                      </a:pPr>
                      <a:r>
                        <a:rPr b="0" lang="bg-BG" sz="2400" spc="-1" strike="noStrike">
                          <a:solidFill>
                            <a:srgbClr val="0a4600"/>
                          </a:solidFill>
                          <a:latin typeface="Sylfaen"/>
                        </a:rPr>
                        <a:t>"Tролейбусни</a:t>
                      </a:r>
                      <a:r>
                        <a:rPr b="0" lang="en-US" sz="2400" spc="-1" strike="noStrike">
                          <a:solidFill>
                            <a:srgbClr val="0a4600"/>
                          </a:solidFill>
                          <a:latin typeface="Sylfaen"/>
                        </a:rPr>
                        <a:t> </a:t>
                      </a:r>
                      <a:r>
                        <a:rPr b="0" lang="bg-BG" sz="2400" spc="-1" strike="noStrike">
                          <a:solidFill>
                            <a:srgbClr val="0a4600"/>
                          </a:solidFill>
                          <a:latin typeface="Sylfaen"/>
                        </a:rPr>
                        <a:t>превози“ ООД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069164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7560" y="1476000"/>
            <a:ext cx="9622080" cy="1582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i="1" lang="bg-BG" sz="3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6: </a:t>
            </a:r>
            <a:r>
              <a:rPr b="1" i="1" lang="ru-RU" sz="3500" spc="-1" strike="noStrike" u="sng">
                <a:solidFill>
                  <a:srgbClr val="000000"/>
                </a:solidFill>
                <a:uFillTx/>
                <a:latin typeface="Sylfaen"/>
              </a:rPr>
              <a:t>Въвеждане </a:t>
            </a:r>
            <a:br>
              <a:rPr sz="3500"/>
            </a:br>
            <a:r>
              <a:rPr b="1" i="1" lang="ru-RU" sz="3500" spc="-1" strike="noStrike" u="sng">
                <a:solidFill>
                  <a:srgbClr val="000000"/>
                </a:solidFill>
                <a:uFillTx/>
                <a:latin typeface="Sylfaen"/>
              </a:rPr>
              <a:t>на информационна система (телематика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33520" y="3492360"/>
            <a:ext cx="9624960" cy="3672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539640" indent="-5396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централа (осигуряване на офис, системи за сигурност, генератор на електричество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софтуе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оборудване за подвижния състав (приблизително 90 тролейбуси и автобус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електронни информационни табла, подаващи информация в реално време, на всички спирки на ГТ (119 на бро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0560" y="1258920"/>
            <a:ext cx="9622080" cy="784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i="1" lang="en-US" sz="5500" spc="-1" strike="noStrike" u="sng">
                <a:solidFill>
                  <a:srgbClr val="000000"/>
                </a:solidFill>
                <a:uFillTx/>
                <a:latin typeface="Sylfaen"/>
              </a:rPr>
              <a:t>Цели на проекта: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2266920"/>
            <a:ext cx="9624960" cy="4826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6000"/>
          </a:bodyPr>
          <a:p>
            <a:pPr marL="5209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bg-BG" sz="2300" spc="-1" strike="noStrike">
                <a:solidFill>
                  <a:srgbClr val="0a4600"/>
                </a:solidFill>
                <a:latin typeface="Sylfaen"/>
              </a:rPr>
              <a:t>Главната цел</a:t>
            </a:r>
            <a:r>
              <a:rPr b="1" lang="bg-BG" sz="23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е насърчаване на използването на устойчиви начини на транспор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092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bg-BG" sz="2300" spc="-1" strike="noStrike">
                <a:solidFill>
                  <a:srgbClr val="0a4600"/>
                </a:solidFill>
                <a:latin typeface="Sylfaen"/>
              </a:rPr>
              <a:t>Социално-икономически цели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20920" indent="-52092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lfaen"/>
              </a:rPr>
              <a:t>Създаване на по-бърз и по-ефективен обществен транспорт </a:t>
            </a:r>
            <a:r>
              <a:rPr b="0" lang="en-US" sz="2200" spc="-1" strike="noStrike">
                <a:solidFill>
                  <a:srgbClr val="000000"/>
                </a:solidFill>
                <a:latin typeface="Sylfaen"/>
              </a:rPr>
              <a:t>(OT) </a:t>
            </a:r>
            <a:r>
              <a:rPr b="0" lang="ru-RU" sz="2200" spc="-1" strike="noStrike">
                <a:solidFill>
                  <a:srgbClr val="000000"/>
                </a:solidFill>
                <a:latin typeface="Sylfaen"/>
              </a:rPr>
              <a:t>с по-малък разход на енерг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0920" indent="-52092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lfaen"/>
              </a:rPr>
              <a:t>Увеличаване на привлекателността и степента на използване на </a:t>
            </a:r>
            <a:r>
              <a:rPr b="0" lang="en-US" sz="2200" spc="-1" strike="noStrike">
                <a:solidFill>
                  <a:srgbClr val="000000"/>
                </a:solidFill>
                <a:latin typeface="Sylfaen"/>
              </a:rPr>
              <a:t>O</a:t>
            </a:r>
            <a:r>
              <a:rPr b="0" lang="ru-RU" sz="2200" spc="-1" strike="noStrike">
                <a:solidFill>
                  <a:srgbClr val="000000"/>
                </a:solidFill>
                <a:latin typeface="Sylfaen"/>
              </a:rPr>
              <a:t>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0920" indent="-52092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lfaen"/>
              </a:rPr>
              <a:t>Подобряване на функционалността в града в рамките на общината и подобряване на мобилността на населението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0920" indent="-52092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lfaen"/>
              </a:rPr>
              <a:t>Намаляване на задръстванията на трафика и повишаване на възможностите за </a:t>
            </a:r>
            <a:r>
              <a:rPr b="0" lang="en-US" sz="2200" spc="-1" strike="noStrike">
                <a:solidFill>
                  <a:srgbClr val="000000"/>
                </a:solidFill>
                <a:latin typeface="Sylfaen"/>
              </a:rPr>
              <a:t>O</a:t>
            </a:r>
            <a:r>
              <a:rPr b="0" lang="ru-RU" sz="2200" spc="-1" strike="noStrike">
                <a:solidFill>
                  <a:srgbClr val="000000"/>
                </a:solidFill>
                <a:latin typeface="Sylfaen"/>
              </a:rPr>
              <a:t>Т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0920" indent="-52092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lfaen"/>
              </a:rPr>
              <a:t>Подобряване на достъпността за хора с увреждания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0920" indent="-52092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lfaen"/>
              </a:rPr>
              <a:t>Подобряване на мобилността на населението чрез насърчаване на устойчиви/щадящи околната среда видове транспорт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0920" indent="-52092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lfaen"/>
              </a:rPr>
              <a:t>Подобряване на безопасността и достъпа за пешеходци и потребителите на </a:t>
            </a:r>
            <a:r>
              <a:rPr b="0" lang="en-US" sz="2200" spc="-1" strike="noStrike">
                <a:solidFill>
                  <a:srgbClr val="000000"/>
                </a:solidFill>
                <a:latin typeface="Sylfaen"/>
              </a:rPr>
              <a:t>OT</a:t>
            </a:r>
            <a:r>
              <a:rPr b="0" lang="ru-RU" sz="2200" spc="-1" strike="noStrike">
                <a:solidFill>
                  <a:srgbClr val="000000"/>
                </a:solidFill>
                <a:latin typeface="Sylfae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7560" y="1246320"/>
            <a:ext cx="9622080" cy="1164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i="1" lang="en-US" sz="49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и на проекта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40920" y="2484000"/>
            <a:ext cx="8904600" cy="4383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lnSpc>
                <a:spcPct val="120000"/>
              </a:lnSpc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bg-BG" sz="2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1:</a:t>
            </a:r>
            <a:r>
              <a:rPr b="1" lang="bg-BG" sz="2500" spc="-1" strike="noStrike">
                <a:solidFill>
                  <a:srgbClr val="0000ff"/>
                </a:solidFill>
                <a:latin typeface="Sylfaen"/>
              </a:rPr>
              <a:t> </a:t>
            </a:r>
            <a:r>
              <a:rPr b="0" lang="bg-BG" sz="2500" spc="-1" strike="noStrike">
                <a:solidFill>
                  <a:srgbClr val="0a4600"/>
                </a:solidFill>
                <a:latin typeface="Sylfaen"/>
              </a:rPr>
              <a:t>Закупуване на нови тролейбус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>
              <a:lnSpc>
                <a:spcPct val="120000"/>
              </a:lnSpc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bg-BG" sz="2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2:</a:t>
            </a:r>
            <a:r>
              <a:rPr b="1" lang="bg-BG" sz="2500" spc="-1" strike="noStrike">
                <a:solidFill>
                  <a:srgbClr val="0000ff"/>
                </a:solidFill>
                <a:latin typeface="Sylfaen"/>
              </a:rPr>
              <a:t> </a:t>
            </a:r>
            <a:r>
              <a:rPr b="0" lang="bg-BG" sz="2500" spc="-1" strike="noStrike">
                <a:solidFill>
                  <a:srgbClr val="0a4600"/>
                </a:solidFill>
                <a:latin typeface="Sylfaen"/>
              </a:rPr>
              <a:t>Поддръжка на тролейбусната мреж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>
              <a:lnSpc>
                <a:spcPct val="120000"/>
              </a:lnSpc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bg-BG" sz="2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3:</a:t>
            </a:r>
            <a:r>
              <a:rPr b="1" lang="bg-BG" sz="25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bg-BG" sz="2500" spc="-1" strike="noStrike">
                <a:solidFill>
                  <a:srgbClr val="0a4600"/>
                </a:solidFill>
                <a:latin typeface="Sylfaen"/>
              </a:rPr>
              <a:t>Изграждане на велоале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>
              <a:lnSpc>
                <a:spcPct val="120000"/>
              </a:lnSpc>
              <a:spcBef>
                <a:spcPts val="624"/>
              </a:spcBef>
              <a:buSzPct val="102851"/>
              <a:buBlip>
                <a:blip r:embed="rId4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bg-BG" sz="2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4:</a:t>
            </a:r>
            <a:r>
              <a:rPr b="1" lang="bg-BG" sz="2500" spc="-1" strike="noStrike">
                <a:solidFill>
                  <a:srgbClr val="0000ff"/>
                </a:solidFill>
                <a:latin typeface="Sylfaen"/>
              </a:rPr>
              <a:t> </a:t>
            </a:r>
            <a:r>
              <a:rPr b="0" lang="bg-BG" sz="2500" spc="-1" strike="noStrike">
                <a:solidFill>
                  <a:srgbClr val="0a4600"/>
                </a:solidFill>
                <a:latin typeface="Sylfaen"/>
              </a:rPr>
              <a:t>Интервенции в пътната мреж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>
              <a:lnSpc>
                <a:spcPct val="120000"/>
              </a:lnSpc>
              <a:spcBef>
                <a:spcPts val="624"/>
              </a:spcBef>
              <a:buSzPct val="102851"/>
              <a:buBlip>
                <a:blip r:embed="rId5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bg-BG" sz="2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5:</a:t>
            </a:r>
            <a:r>
              <a:rPr b="1" lang="bg-BG" sz="25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bg-BG" sz="2500" spc="-1" strike="noStrike">
                <a:solidFill>
                  <a:srgbClr val="0a4600"/>
                </a:solidFill>
                <a:latin typeface="Sylfaen"/>
              </a:rPr>
              <a:t>Рехабилитация на спирките за обществен транспор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>
              <a:lnSpc>
                <a:spcPct val="120000"/>
              </a:lnSpc>
              <a:spcBef>
                <a:spcPts val="624"/>
              </a:spcBef>
              <a:buSzPct val="102851"/>
              <a:buBlip>
                <a:blip r:embed="rId6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bg-BG" sz="2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6:</a:t>
            </a:r>
            <a:r>
              <a:rPr b="1" lang="bg-BG" sz="25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bg-BG" sz="2500" spc="-1" strike="noStrike">
                <a:solidFill>
                  <a:srgbClr val="0a4600"/>
                </a:solidFill>
                <a:latin typeface="Sylfaen"/>
              </a:rPr>
              <a:t>Въвеждане на информационна система (телематика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0560" y="1547640"/>
            <a:ext cx="9622080" cy="1368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1: Закупуване на нови тролейбуси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4000" y="3203640"/>
            <a:ext cx="9275760" cy="3168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6000"/>
          </a:bodyPr>
          <a:p>
            <a:pPr marL="374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en-US" sz="2000" spc="-1" strike="noStrike">
                <a:solidFill>
                  <a:srgbClr val="0a4600"/>
                </a:solidFill>
                <a:latin typeface="Sylfaen"/>
              </a:rPr>
              <a:t>	</a:t>
            </a: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одмяна на 14 тролейбусни коли на възраст над 24 години с нови със следните характерис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9960" indent="-42984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нископод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9960" indent="-42984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несъчлен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9960" indent="-42984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с три вр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9960" indent="-42984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снабдени с рампа за пътници в инвалидни колички.</a:t>
            </a:r>
            <a:r>
              <a:rPr b="1" lang="en-US" sz="2400" spc="-1" strike="noStrike">
                <a:solidFill>
                  <a:srgbClr val="0a4600"/>
                </a:solidFill>
                <a:latin typeface="Sylfae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7560" y="1402920"/>
            <a:ext cx="9622080" cy="1297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i="1" lang="bg-BG" sz="3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</a:t>
            </a:r>
            <a:r>
              <a:rPr b="1" i="1" lang="en-US" sz="3500" spc="-1" strike="noStrike" u="sng">
                <a:solidFill>
                  <a:srgbClr val="000000"/>
                </a:solidFill>
                <a:uFillTx/>
                <a:latin typeface="Sylfaen"/>
              </a:rPr>
              <a:t>2</a:t>
            </a:r>
            <a:r>
              <a:rPr b="1" i="1" lang="bg-BG" sz="3500" spc="-1" strike="noStrike" u="sng">
                <a:solidFill>
                  <a:srgbClr val="000000"/>
                </a:solidFill>
                <a:uFillTx/>
                <a:latin typeface="Sylfaen"/>
              </a:rPr>
              <a:t>:</a:t>
            </a:r>
            <a:r>
              <a:rPr b="1" i="1" lang="en-US" sz="3500" spc="-1" strike="noStrike" u="sng">
                <a:solidFill>
                  <a:srgbClr val="000000"/>
                </a:solidFill>
                <a:uFillTx/>
                <a:latin typeface="Sylfaen"/>
              </a:rPr>
              <a:t> </a:t>
            </a:r>
            <a:r>
              <a:rPr b="1" i="1" lang="bg-BG" sz="3500" spc="-1" strike="noStrike" u="sng">
                <a:solidFill>
                  <a:srgbClr val="000000"/>
                </a:solidFill>
                <a:uFillTx/>
                <a:latin typeface="Sylfaen"/>
              </a:rPr>
              <a:t>Поддръжка на тролейбусната мрежа (1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771640"/>
            <a:ext cx="9624960" cy="43214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8000"/>
          </a:bodyPr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lfaen"/>
              <a:buAutoNum type="arabicPeriod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Sylfaen"/>
              </a:rPr>
              <a:t>одернизация и поддръжка на 7 участъка от тролейбусната мрежа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5194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000" spc="-1" strike="noStrike">
                <a:solidFill>
                  <a:srgbClr val="0a4600"/>
                </a:solidFill>
                <a:latin typeface="Sylfaen"/>
              </a:rPr>
              <a:t>инсталира</a:t>
            </a:r>
            <a:r>
              <a:rPr b="0" lang="bg-BG" sz="2000" spc="-1" strike="noStrike">
                <a:solidFill>
                  <a:srgbClr val="0a4600"/>
                </a:solidFill>
                <a:latin typeface="Sylfaen"/>
              </a:rPr>
              <a:t>не на</a:t>
            </a:r>
            <a:r>
              <a:rPr b="0" lang="ru-RU" sz="2000" spc="-1" strike="noStrike">
                <a:solidFill>
                  <a:srgbClr val="0a4600"/>
                </a:solidFill>
                <a:latin typeface="Sylfaen"/>
              </a:rPr>
              <a:t> нови тролейбусни стрелки с дистанционно управление, нови кръстовки, секторни изолатори и компенсатор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5194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000" spc="-1" strike="noStrike">
                <a:solidFill>
                  <a:srgbClr val="0a4600"/>
                </a:solidFill>
                <a:latin typeface="Sylfaen"/>
              </a:rPr>
              <a:t>подмяна на изолационните възли на конзолит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5194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000" spc="-1" strike="noStrike">
                <a:solidFill>
                  <a:srgbClr val="0a4600"/>
                </a:solidFill>
                <a:latin typeface="Sylfaen"/>
              </a:rPr>
              <a:t>подмяна на носещата и фиксираща мрежа с материали, неподлежащи на корозия и защита от корозия на стълбовете и конзолит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5194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000" spc="-1" strike="noStrike">
                <a:solidFill>
                  <a:srgbClr val="0a4600"/>
                </a:solidFill>
                <a:latin typeface="Sylfaen"/>
              </a:rPr>
              <a:t>подмяна на контактния провод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lfaen"/>
              <a:buAutoNum type="arabicPeriod" startAt="2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Sylfaen"/>
              </a:rPr>
              <a:t>Закупуване на специализиран автомобил за ремонт и поддръжка на В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5194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000" spc="-1" strike="noStrike">
                <a:solidFill>
                  <a:srgbClr val="0a4600"/>
                </a:solidFill>
                <a:latin typeface="Sylfaen"/>
              </a:rPr>
              <a:t>автомобилът ще бъде снабден с изолирана платформа за работа с хидравлично повдигане и завърт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20560" y="1332000"/>
            <a:ext cx="962208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i="1" lang="ru-RU" sz="3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2: Поддръжка на тролейбусната мрежа </a:t>
            </a:r>
            <a:r>
              <a:rPr b="1" i="1" lang="bg-BG" sz="3500" spc="-1" strike="noStrike" u="sng">
                <a:solidFill>
                  <a:srgbClr val="000000"/>
                </a:solidFill>
                <a:uFillTx/>
                <a:latin typeface="Sylfaen"/>
              </a:rPr>
              <a:t>(2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3131640"/>
            <a:ext cx="9624960" cy="4032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lfaen"/>
              <a:buAutoNum type="arabicPeriod" startAt="3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lfaen"/>
              </a:rPr>
              <a:t>Рехабилитация на токоизправителни станции (ТИС )</a:t>
            </a:r>
            <a:r>
              <a:rPr b="1" lang="bg-BG" sz="2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lfaen"/>
              </a:rPr>
              <a:t>1, 2, 4,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000" spc="-1" strike="noStrike">
                <a:solidFill>
                  <a:srgbClr val="0a4600"/>
                </a:solidFill>
                <a:latin typeface="Sylfaen"/>
              </a:rPr>
              <a:t>защита от пренатоварвания и от късо съедин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000" spc="-1" strike="noStrike">
                <a:solidFill>
                  <a:srgbClr val="0a4600"/>
                </a:solidFill>
                <a:latin typeface="Sylfaen"/>
              </a:rPr>
              <a:t>рехабилитация на сервомоторите за зареждане на маломаслени прекъсва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000" spc="-1" strike="noStrike">
                <a:solidFill>
                  <a:srgbClr val="0a4600"/>
                </a:solidFill>
                <a:latin typeface="Sylfaen"/>
              </a:rPr>
              <a:t>осигуряване на сигнализация за защита на токоизправителя от  пробив на диод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lfaen"/>
              <a:buAutoNum type="arabicPeriod" startAt="4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Sylfaen"/>
              </a:rPr>
              <a:t>Рехабилитация на депо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000" spc="-1" strike="noStrike">
                <a:solidFill>
                  <a:srgbClr val="0a4600"/>
                </a:solidFill>
                <a:latin typeface="Sylfaen"/>
              </a:rPr>
              <a:t>закупуване на нови машини за обслужване на тролейбусния пар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000" spc="-1" strike="noStrike">
                <a:solidFill>
                  <a:srgbClr val="0a4600"/>
                </a:solidFill>
                <a:latin typeface="Sylfaen"/>
              </a:rPr>
              <a:t>основен ремонт на автомивката за тролейбуси и ремонт на битовите поме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7560" y="1245960"/>
            <a:ext cx="9622080" cy="126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i="1" lang="bg-BG" sz="3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3: Изграждане на велоалеи</a:t>
            </a:r>
            <a:r>
              <a:rPr b="1" i="1" lang="bg-BG" sz="4400" spc="-1" strike="noStrike" u="sng">
                <a:solidFill>
                  <a:srgbClr val="000000"/>
                </a:solidFill>
                <a:uFillTx/>
                <a:latin typeface="Sylfae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20200" y="2771280"/>
            <a:ext cx="3876840" cy="4248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8000"/>
          </a:bodyPr>
          <a:p>
            <a:pPr marL="528840" indent="-528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мрежата от велоалеи </a:t>
            </a: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ще свързва централната част на Стара Загора с основни райони, парк „Бедечка” и новия парк в Сама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840" indent="-528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840" indent="-528840">
              <a:lnSpc>
                <a:spcPct val="80000"/>
              </a:lnSpc>
              <a:spcBef>
                <a:spcPts val="451"/>
              </a:spcBef>
              <a:buSzPct val="102884"/>
              <a:buBlip>
                <a:blip r:embed="rId2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обща дължина на велоалеите: приблизително 7,8 км.</a:t>
            </a:r>
            <a:r>
              <a:rPr b="1" lang="bg-BG" sz="1800" spc="-1" strike="noStrike">
                <a:solidFill>
                  <a:srgbClr val="000000"/>
                </a:solidFill>
                <a:latin typeface="Sylfae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"/>
          <p:cNvPicPr/>
          <p:nvPr/>
        </p:nvPicPr>
        <p:blipFill>
          <a:blip r:embed="rId3"/>
          <a:stretch/>
        </p:blipFill>
        <p:spPr>
          <a:xfrm>
            <a:off x="4554360" y="2700360"/>
            <a:ext cx="58327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7280" y="1692000"/>
            <a:ext cx="7607520" cy="126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i="1" lang="en-US" sz="3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4: Интервенции в пътната мреж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69640" y="3203640"/>
            <a:ext cx="8785080" cy="39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539640" indent="-539640">
              <a:lnSpc>
                <a:spcPct val="12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изграждане на 80 рампи (59 двойни и 21 единични) към тротоарите на главните кръстовища</a:t>
            </a: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с цел да се подобри достъпа до спирките на ГТ и мобилността като цяло за хората с уврежд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поставяне на необходимите бариери и знац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хоризонтална маркировка приблизително върху 14,400 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Sylfae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25640" y="1618920"/>
            <a:ext cx="7920000" cy="126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i="1" lang="bg-BG" sz="3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5: </a:t>
            </a:r>
            <a:r>
              <a:rPr b="1" i="1" lang="ru-RU" sz="3500" spc="-1" strike="noStrike" u="sng">
                <a:solidFill>
                  <a:srgbClr val="000000"/>
                </a:solidFill>
                <a:uFillTx/>
                <a:latin typeface="Sylfaen"/>
              </a:rPr>
              <a:t>Рехабилитация на спирките за О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170000" y="3203280"/>
            <a:ext cx="8352000" cy="3771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539640" indent="-539640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изграждане на 12 отбивки (“джобове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монтиране на 104 обозначителни табе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23 спиркови наве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24 пей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2T10:26:33Z</dcterms:created>
  <dc:creator>VVasileva</dc:creator>
  <dc:description/>
  <dc:language>en-US</dc:language>
  <cp:lastModifiedBy>PetrusenkoR</cp:lastModifiedBy>
  <dcterms:modified xsi:type="dcterms:W3CDTF">2012-08-17T13:07:01Z</dcterms:modified>
  <cp:revision>46</cp:revision>
  <dc:subject/>
  <dc:title>SZ IUTP</dc:title>
</cp:coreProperties>
</file>