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565-7CE4-49AB-9A6A-09711B64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802760"/>
            <a:ext cx="96264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C08-7BD3-4210-AE6D-74DA7E0E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80276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6600" y="480276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9E5-0C86-45DE-B808-7D1C0BBC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640" y="266868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3400" y="266868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80276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640" y="480276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3400" y="480276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770-0238-47BB-A61C-DF4C6512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B39-3B7D-44FD-ABB5-8B8BF65E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471-BE47-4B36-814D-71443FA8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E25-15A3-4243-9D56-4777C0B9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AB0-FDA3-414A-A081-ADBAEA06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200" y="1240920"/>
            <a:ext cx="9625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F30-F045-4185-A7CC-F4662A67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80276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ACD-4D3E-42E9-A312-917F124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6600" y="480276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18D-8CDE-41A0-B0E9-7C83885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802760"/>
            <a:ext cx="96264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08E-4E65-4CD6-945E-0D9F9131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144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8000"/>
          </a:bodyPr>
          <a:p>
            <a:pPr marL="343440" indent="-343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4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8400" indent="-230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64600" indent="-2293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64600" indent="-2293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64600" indent="-2293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520" y="6885000"/>
            <a:ext cx="24969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4360" y="6885000"/>
            <a:ext cx="33847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69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1799E14-3005-4513-94B2-9061580D897F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5680" y="1320840"/>
            <a:ext cx="9086760" cy="1619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500" spc="-1" strike="noStrike" u="sng">
                <a:solidFill>
                  <a:srgbClr val="0a4600"/>
                </a:solidFill>
                <a:uFillTx/>
                <a:latin typeface="Sylfaen"/>
              </a:rPr>
              <a:t>Проект за столичен интегриран градски транспорт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82720" y="3065400"/>
          <a:ext cx="8928000" cy="3564000"/>
        </p:xfrm>
        <a:graphic>
          <a:graphicData uri="http://schemas.openxmlformats.org/drawingml/2006/table">
            <a:tbl>
              <a:tblPr/>
              <a:tblGrid>
                <a:gridCol w="4167000"/>
                <a:gridCol w="4761000"/>
              </a:tblGrid>
              <a:tr h="46764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122 482 833 лв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97 791 500 </a:t>
                      </a:r>
                      <a:r>
                        <a:rPr b="1" lang="bg-BG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лв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24 691 333 лв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19340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ru-RU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23.08.2011</a:t>
                      </a: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г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36 месе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62288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“</a:t>
                      </a: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Център за градска мобилност” ЕООД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“</a:t>
                      </a: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Столичен Електротранспорт” ЕАД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280" y="1606320"/>
            <a:ext cx="9625320" cy="9745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i="1" lang="en-US" sz="49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3866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Главната цел</a:t>
            </a:r>
            <a:r>
              <a:rPr b="1" lang="bg-BG" sz="23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на проекта е да осигури ефективно, устойчиво подобрение на услугата градски транспорт в Софи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66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66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Социално-икономическите ефекти</a:t>
            </a:r>
            <a:r>
              <a:rPr b="1" lang="bg-BG" sz="2300" spc="-1" strike="noStrike">
                <a:solidFill>
                  <a:srgbClr val="000000"/>
                </a:solidFill>
                <a:latin typeface="Sylfaen"/>
              </a:rPr>
              <a:t> от проек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Увеличаване на броя на пътници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Увеличаване на експлоатационната скорост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спективно намаляване на времето за пътуван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Намаляване броят на неизпълнените курсове поради повред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Икономия на електроенерг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обрена достъпност и информиранос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360" y="1380960"/>
            <a:ext cx="9626760" cy="1116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9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50480" y="2504880"/>
            <a:ext cx="9109080" cy="430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1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ITS (Интелигентна система за управление на движението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Електронни информационни таб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*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Правен и маркетинг анали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Нови тролейбус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Нова трамвайна линия от Семинарията до Дървениц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Рехабилитация на релсовия път по бул. Българ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078680"/>
            <a:ext cx="10693440" cy="43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* Номерацията на запазените компоненти не е последователна, тъй като от първоначалния обхват на проекта отпаднаха някои компоненти. Два от тях бяха изключени от проекта, тъй като Столична община ще продължи реализацията им със собствени средства (Компонент 4: Разширение на системата за таксуване и Компонент 7: Преместване на трамвайната линия по бул. Скобелев). Третият първоначално предвиден компонент, Компонент 3: Навеси за спирките на градския транспорт, понастоящем е подменен с Техническа помощ за изготвяне на правен и маркетинг анализ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78000"/>
            <a:ext cx="10693440" cy="628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16200000">
            <a:off x="6006960" y="-615600"/>
            <a:ext cx="974880" cy="437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104400" rIns="104400" tIns="52200" bIns="52200" anchor="t" vert="eaVert">
            <a:normAutofit/>
          </a:bodyPr>
          <a:p>
            <a:pPr marL="390600" indent="-390600" algn="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100" spc="-1" strike="noStrike" u="sng">
                <a:solidFill>
                  <a:srgbClr val="000000"/>
                </a:solidFill>
                <a:uFillTx/>
                <a:latin typeface="Sylfaen"/>
              </a:rPr>
              <a:t>Обхват на проек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1: ITS (Интелигентна система за управление на движението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0760" y="2504880"/>
            <a:ext cx="9480600" cy="4873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38664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lfaen"/>
              </a:rPr>
              <a:t>1. </a:t>
            </a: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Инсталиране на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Sylfaen"/>
              </a:rPr>
              <a:t>ITS </a:t>
            </a:r>
            <a:r>
              <a:rPr b="1" lang="bg-BG" sz="1900" spc="-1" strike="noStrike" u="sng">
                <a:solidFill>
                  <a:srgbClr val="000000"/>
                </a:solidFill>
                <a:uFillTx/>
                <a:latin typeface="Sylfaen"/>
              </a:rPr>
              <a:t>оборудване</a:t>
            </a: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 на 20 кръстовища, така че да се осигури приоритет на</a:t>
            </a:r>
            <a:r>
              <a:rPr b="1" lang="en-US" sz="19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градския транспорт при отчитане на движението в реално врем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664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2. </a:t>
            </a:r>
            <a:r>
              <a:rPr b="1" lang="bg-BG" sz="1900" spc="-1" strike="noStrike" u="sng">
                <a:solidFill>
                  <a:srgbClr val="000000"/>
                </a:solidFill>
                <a:uFillTx/>
                <a:latin typeface="Sylfaen"/>
              </a:rPr>
              <a:t>Физически работи</a:t>
            </a: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 на 7 от кръстовищата с цел подобряване експлоатацията на кръстовищат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1 (бул.„България” – бул. „Черни връх”) – допълнителни бус-ленти, промяна на маркировката на лентите и знац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2 (бул. „Евлоги Георгиев” – бул. „Драган Цанков) – допълнителна лента за завой, комбинирана трамвайна лента и лента за ляв зав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3 (бул. „Евлоги Георгиев” – ул. „Генерал Гурко”) – допълнителна лента за десен зав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4 (пл. Орлов мост) – създаване на бус-лента, затваряне на една връз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15 (бул. „Г.М. Димитров – бул. „Драган Цанков”) – промяна на лентите за десен завой на ленти за десен завой/бус-ленти за направо. Нови бус-ленти на двата изход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23 (бул. „България” – бул. „Тодор Каблешков”) – смяна на конфигурацията на южния подход на локалното платн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24 (ул. „Прага” – бул. „П. Славейков”) – нова лента за десен зав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Електронни информационни табл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4424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marL="34956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мпонентът предвижда инсталиране на </a:t>
            </a:r>
            <a:r>
              <a:rPr b="0" lang="bg-BG" sz="2300" spc="-1" strike="noStrike" u="sng">
                <a:solidFill>
                  <a:srgbClr val="000000"/>
                </a:solidFill>
                <a:uFillTx/>
                <a:latin typeface="Sylfaen"/>
              </a:rPr>
              <a:t>600 нови електронни информационни табла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на спирките на градския транспорт на натоварените кръстовища в централната и крайградска части на град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95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956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ЕИТ ще предоставят следната </a:t>
            </a:r>
            <a:r>
              <a:rPr b="0" lang="bg-BG" sz="2300" spc="-1" strike="noStrike" u="sng">
                <a:solidFill>
                  <a:srgbClr val="000000"/>
                </a:solidFill>
                <a:uFillTx/>
                <a:latin typeface="Sylfaen"/>
              </a:rPr>
              <a:t>информация за пътниците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Вид на превозното средство - автобус, тролейбус или трамва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Номер на линият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райна спирка на линият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Действително време на пристигане на спиркат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Времето в момен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956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956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ЕИТ ще имат и </a:t>
            </a:r>
            <a:r>
              <a:rPr b="0" lang="bg-BG" sz="2300" spc="-1" strike="noStrike" u="sng">
                <a:solidFill>
                  <a:srgbClr val="000000"/>
                </a:solidFill>
                <a:uFillTx/>
                <a:latin typeface="Sylfaen"/>
              </a:rPr>
              <a:t>модул за звуково обявяване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 Нови тролейбус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Sylfaen"/>
              </a:rPr>
              <a:t>50 нови съчленени тролейбуси за обслужване най-натоварените тролейбусни маршрути – линиите 1, 2, 5 и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800" spc="-1" strike="noStrike" u="sng">
                <a:solidFill>
                  <a:srgbClr val="000000"/>
                </a:solidFill>
                <a:uFillTx/>
                <a:latin typeface="Sylfaen"/>
              </a:rPr>
              <a:t>Характеристики</a:t>
            </a:r>
            <a:r>
              <a:rPr b="0" lang="en-US" sz="2800" spc="-1" strike="noStrike">
                <a:solidFill>
                  <a:srgbClr val="000000"/>
                </a:solidFill>
                <a:latin typeface="Sylfae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4975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дълги 18 метра с капацитет най-малко 160 пъ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4975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височина на пода не повече от 350-360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4975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функция за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снижаване, която ще позволява дясната страна на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ревозното средство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да се спуска към спирките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4975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рампа за инвалидни колички и свободно пространство за тях в интериора.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 Нова трамвайна линия от Семинарията до Дървениц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668320"/>
            <a:ext cx="9626400" cy="4260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Той се състои от два подкомпонен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 algn="just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500" spc="-1" strike="noStrike" u="sng">
                <a:solidFill>
                  <a:srgbClr val="0a4600"/>
                </a:solidFill>
                <a:uFillTx/>
                <a:latin typeface="Sylfaen"/>
              </a:rPr>
              <a:t>подкомпонент 1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изграждане на около 2,8 км нов двоен трамваен релсов път от кръстовището на ул. „Стоян Михайловски” с бул. „Пейо К. Яворов” до кръстовището на бул. „Св. Климент Охридски” с бул. „Г.М. Димитров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 algn="just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500" spc="-1" strike="noStrike" u="sng">
                <a:solidFill>
                  <a:srgbClr val="0a4600"/>
                </a:solidFill>
                <a:uFillTx/>
                <a:latin typeface="Sylfaen"/>
              </a:rPr>
              <a:t>подкомпонент 2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реконструкция на 1,8 км релсов път, по протежение на бул. „Св. Климент Охридски” до обръщателно ухо Дървениц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1360" y="1680840"/>
            <a:ext cx="962676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 Рехабилитация на релсовия път по бул.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“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България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0160" y="3105000"/>
            <a:ext cx="8886960" cy="384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реконструкцията на пероните</a:t>
            </a: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ремонт на прилежащите подлези</a:t>
            </a: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монтиране на спиркови навеси</a:t>
            </a: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електронни информационни табла и електрозахранване</a:t>
            </a: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пълна подмяна на релсовия път и ККМ (с нова контактна мрежа и стълбов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9:16:56Z</dcterms:created>
  <dc:creator>VVasileva</dc:creator>
  <dc:description/>
  <dc:language>en-US</dc:language>
  <cp:lastModifiedBy>PetrusenkoR</cp:lastModifiedBy>
  <dcterms:modified xsi:type="dcterms:W3CDTF">2012-08-17T13:07:15Z</dcterms:modified>
  <cp:revision>22</cp:revision>
  <dc:subject/>
  <dc:title>Sofia IUTP</dc:title>
</cp:coreProperties>
</file>