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91813" cy="7559675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45A-DE2E-4BB5-AD7D-8D9463C2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4802760"/>
            <a:ext cx="96264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173-F51A-46F4-BEBC-A343D40C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480276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6600" y="480276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EC7-BF04-49BF-947E-E4DAB74D9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8640" y="266868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43400" y="266868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480276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88640" y="480276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43400" y="4802760"/>
            <a:ext cx="30996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5C1-D8CF-4583-813D-1E3EFACC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AB7-2E76-45B3-842E-4995ADFB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8FA-6080-4C2D-9C16-19C25795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67A-3A59-4D14-B919-6A95ABC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F21-CF33-4F38-B337-58BFB516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47200" y="1240920"/>
            <a:ext cx="96253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334-EDEE-4BC5-B100-AA254D68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480276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3A1-E628-4607-87FE-35FF6DC6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6600" y="480276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AE8-1CA1-4257-B440-838D7461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6600" y="2668680"/>
            <a:ext cx="469764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802760"/>
            <a:ext cx="9626400" cy="1948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012-8072-4E5C-A765-E5A76C40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144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88000"/>
          </a:bodyPr>
          <a:p>
            <a:pPr marL="343440" indent="-3434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4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8400" indent="-230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64600" indent="-2293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64600" indent="-2293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64600" indent="-2293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520" y="6885000"/>
            <a:ext cx="24969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4360" y="6885000"/>
            <a:ext cx="33847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696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bg-BG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2EB7DB0-5712-4AAD-8922-214F8C3F5BD7}" type="slidenum">
              <a:rPr b="0" lang="bg-BG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5680" y="1320840"/>
            <a:ext cx="9086760" cy="1619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500" spc="-1" strike="noStrike" u="sng">
                <a:solidFill>
                  <a:srgbClr val="0a4600"/>
                </a:solidFill>
                <a:uFillTx/>
                <a:latin typeface="Sylfaen"/>
              </a:rPr>
              <a:t>Проект за столичен интегриран градски транспорт</a:t>
            </a: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82720" y="3065400"/>
          <a:ext cx="8928000" cy="3564000"/>
        </p:xfrm>
        <a:graphic>
          <a:graphicData uri="http://schemas.openxmlformats.org/drawingml/2006/table">
            <a:tbl>
              <a:tblPr/>
              <a:tblGrid>
                <a:gridCol w="4167000"/>
                <a:gridCol w="4761000"/>
              </a:tblGrid>
              <a:tr h="46764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Обща стойност на проект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122 482 833 лв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Безвъзмездна финансова помощ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97 791 500 </a:t>
                      </a:r>
                      <a:r>
                        <a:rPr b="1" lang="bg-BG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лв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обствен принос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24 691 333 лв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19340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ru-RU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Дата на подписване на договор за безвъзмездна финансова помощ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23.08.2011</a:t>
                      </a: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г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Срок за изпълне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36 месец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  <a:tr h="1622880">
                <a:tc>
                  <a:txBody>
                    <a:bodyPr lIns="104400" rIns="104400" tIns="52200" bIns="52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Партньор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  <a:tc>
                  <a:txBody>
                    <a:bodyPr lIns="104400" rIns="104400" tIns="52200" bIns="522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“</a:t>
                      </a: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Център за градска мобилност” ЕООД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“</a:t>
                      </a:r>
                      <a:r>
                        <a:rPr b="1" lang="en-US" sz="2100" spc="-1" strike="noStrike">
                          <a:solidFill>
                            <a:srgbClr val="3c6400"/>
                          </a:solidFill>
                          <a:latin typeface="Sylfaen"/>
                        </a:rPr>
                        <a:t>Столичен Електротранспорт” ЕАД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a4600"/>
                      </a:solidFill>
                    </a:lnT>
                    <a:lnB w="1440">
                      <a:solidFill>
                        <a:srgbClr val="0a4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280" y="1606320"/>
            <a:ext cx="9625320" cy="9745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1" i="1" lang="en-US" sz="4900" spc="-1" strike="noStrike" u="sng">
                <a:solidFill>
                  <a:srgbClr val="000000"/>
                </a:solidFill>
                <a:uFillTx/>
                <a:latin typeface="Sylfaen"/>
              </a:rPr>
              <a:t>Цели на проект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3866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Главната цел</a:t>
            </a:r>
            <a:r>
              <a:rPr b="1" lang="bg-BG" sz="23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на проекта е да осигури ефективно, устойчиво подобрение на услугата градски транспорт в Софи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66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664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300" spc="-1" strike="noStrike">
                <a:solidFill>
                  <a:srgbClr val="0a4600"/>
                </a:solidFill>
                <a:latin typeface="Sylfaen"/>
              </a:rPr>
              <a:t>Социално-икономическите ефекти</a:t>
            </a:r>
            <a:r>
              <a:rPr b="1" lang="bg-BG" sz="2300" spc="-1" strike="noStrike">
                <a:solidFill>
                  <a:srgbClr val="000000"/>
                </a:solidFill>
                <a:latin typeface="Sylfaen"/>
              </a:rPr>
              <a:t> от проек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Увеличаване на броя на пътници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Увеличаване на експлоатационната скорост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, 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респективно намаляване на времето за пътуван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Намаляване броят на неизпълнените курсове поради повред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Икономия на електроенерг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321840" algn="just">
              <a:lnSpc>
                <a:spcPct val="9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Подобрена достъпност и информиранос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360" y="1380960"/>
            <a:ext cx="9626760" cy="1116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>
                <a:alpha val="50000"/>
              </a:srgbClr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9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и на проекта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50480" y="2504880"/>
            <a:ext cx="9109080" cy="43002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1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ITS (Интелигентна система за управление на движението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Електронни информационни таб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3*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Правен и маркетинг анали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Нови тролейбус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Нова трамвайна линия от Семинарията до Дървениц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03200" indent="-403200">
              <a:lnSpc>
                <a:spcPct val="110000"/>
              </a:lnSpc>
              <a:spcBef>
                <a:spcPts val="624"/>
              </a:spcBef>
              <a:buSzPct val="102851"/>
              <a:buBlip>
                <a:blip r:embed="rId6"/>
              </a:buBlip>
              <a:tabLst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bg-BG" sz="2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 </a:t>
            </a:r>
            <a:r>
              <a:rPr b="0" lang="bg-BG" sz="2500" spc="-1" strike="noStrike">
                <a:solidFill>
                  <a:srgbClr val="0a4600"/>
                </a:solidFill>
                <a:latin typeface="Sylfaen"/>
              </a:rPr>
              <a:t>Рехабилитация на релсовия път по бул. Българ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078680"/>
            <a:ext cx="10693440" cy="43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* Номерацията на запазените компоненти не е последователна, тъй като от първоначалния обхват на проекта отпаднаха някои компоненти. Два от тях бяха изключени от проекта, тъй като Столична община ще продължи реализацията им със собствени средства (Компонент 4: Разширение на системата за таксуване и Компонент 7: Преместване на трамвайната линия по бул. Скобелев). Третият първоначално предвиден компонент, Компонент 3: Навеси за спирките на градския транспорт, понастоящем е подменен с Техническа помощ за изготвяне на правен и маркетинг анализ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78000"/>
            <a:ext cx="10693440" cy="628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16200000">
            <a:off x="6006960" y="-615600"/>
            <a:ext cx="974880" cy="437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104400" rIns="104400" tIns="52200" bIns="52200" anchor="t" vert="eaVert">
            <a:normAutofit/>
          </a:bodyPr>
          <a:p>
            <a:pPr marL="390600" indent="-390600" algn="r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4100" spc="-1" strike="noStrike" u="sng">
                <a:solidFill>
                  <a:srgbClr val="000000"/>
                </a:solidFill>
                <a:uFillTx/>
                <a:latin typeface="Sylfaen"/>
              </a:rPr>
              <a:t>Обхват на проект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 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1: ITS (Интелигентна система за управление на движението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0760" y="2504880"/>
            <a:ext cx="9480600" cy="4873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9000"/>
          </a:bodyPr>
          <a:p>
            <a:pPr marL="38664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Sylfaen"/>
              </a:rPr>
              <a:t>1. </a:t>
            </a: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Инсталиране на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Sylfaen"/>
              </a:rPr>
              <a:t>ITS </a:t>
            </a:r>
            <a:r>
              <a:rPr b="1" lang="bg-BG" sz="1900" spc="-1" strike="noStrike" u="sng">
                <a:solidFill>
                  <a:srgbClr val="000000"/>
                </a:solidFill>
                <a:uFillTx/>
                <a:latin typeface="Sylfaen"/>
              </a:rPr>
              <a:t>оборудване</a:t>
            </a: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 на 20 кръстовища, така че да се осигури приоритет на</a:t>
            </a:r>
            <a:r>
              <a:rPr b="1" lang="en-US" sz="19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градския транспорт при отчитане на движението в реално врем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664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2. </a:t>
            </a:r>
            <a:r>
              <a:rPr b="1" lang="bg-BG" sz="1900" spc="-1" strike="noStrike" u="sng">
                <a:solidFill>
                  <a:srgbClr val="000000"/>
                </a:solidFill>
                <a:uFillTx/>
                <a:latin typeface="Sylfaen"/>
              </a:rPr>
              <a:t>Физически работи</a:t>
            </a:r>
            <a:r>
              <a:rPr b="1" lang="bg-BG" sz="1900" spc="-1" strike="noStrike">
                <a:solidFill>
                  <a:srgbClr val="000000"/>
                </a:solidFill>
                <a:latin typeface="Sylfaen"/>
              </a:rPr>
              <a:t> на 7 от кръстовищата с цел подобряване експлоатацията на кръстовищат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1 (бул.„България” – бул. „Черни връх”) – допълнителни бус-ленти, промяна на маркировката на лентите и знац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2 (бул. „Евлоги Георгиев” – бул. „Драган Цанков) – допълнителна лента за завой, комбинирана трамвайна лента и лента за ляв зав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3 (бул. „Евлоги Георгиев” – ул. „Генерал Гурко”) – допълнителна лента за десен зав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4 (пл. Орлов мост) – създаване на бус-лента, затваряне на една връз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15 (бул. „Г.М. Димитров – бул. „Драган Цанков”) – промяна на лентите за десен завой на ленти за десен завой/бус-ленти за направо. Нови бус-ленти на двата изход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6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23 (бул. „България” – бул. „Тодор Каблешков”) – смяна на конфигурацията на южния подход на локалното платн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6640" indent="-386640" algn="just"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7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1700" spc="-1" strike="noStrike">
                <a:solidFill>
                  <a:srgbClr val="0a4600"/>
                </a:solidFill>
                <a:latin typeface="Sylfaen"/>
              </a:rPr>
              <a:t>Кръстовище 24 (ул. „Прага” – бул. „П. Славейков”) – нова лента за десен зав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2: Електронни информационни табл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4424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marL="34956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омпонентът предвижда инсталиране на </a:t>
            </a:r>
            <a:r>
              <a:rPr b="0" lang="bg-BG" sz="2300" spc="-1" strike="noStrike" u="sng">
                <a:solidFill>
                  <a:srgbClr val="000000"/>
                </a:solidFill>
                <a:uFillTx/>
                <a:latin typeface="Sylfaen"/>
              </a:rPr>
              <a:t>600 нови електронни информационни табла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 на спирките на градския транспорт на натоварените кръстовища в централната и крайградска части на град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95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956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ЕИТ ще предоставят следната </a:t>
            </a:r>
            <a:r>
              <a:rPr b="0" lang="bg-BG" sz="2300" spc="-1" strike="noStrike" u="sng">
                <a:solidFill>
                  <a:srgbClr val="000000"/>
                </a:solidFill>
                <a:uFillTx/>
                <a:latin typeface="Sylfaen"/>
              </a:rPr>
              <a:t>информация за пътниците</a:t>
            </a: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Вид на превозното средство - автобус, тролейбус или трамва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Номер на линият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Крайна спирка на линият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Действително време на пристигане на спиркат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34120" indent="-308880" algn="just">
              <a:lnSpc>
                <a:spcPct val="80000"/>
              </a:lnSpc>
              <a:spcBef>
                <a:spcPts val="575"/>
              </a:spcBef>
              <a:buSzPct val="10287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Времето в момен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956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956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ЕИТ ще имат и </a:t>
            </a:r>
            <a:r>
              <a:rPr b="0" lang="bg-BG" sz="2300" spc="-1" strike="noStrike" u="sng">
                <a:solidFill>
                  <a:srgbClr val="000000"/>
                </a:solidFill>
                <a:uFillTx/>
                <a:latin typeface="Sylfaen"/>
              </a:rPr>
              <a:t>модул за звуково обявяване</a:t>
            </a:r>
            <a:r>
              <a:rPr b="0" lang="en-US" sz="23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5: Нови тролейбус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668680"/>
            <a:ext cx="9626400" cy="4086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 fontScale="95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Sylfaen"/>
              </a:rPr>
              <a:t>50 нови съчленени тролейбуси за обслужване най-натоварените тролейбусни маршрути – линиите 1, 2, 5 и 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800" spc="-1" strike="noStrike" u="sng">
                <a:solidFill>
                  <a:srgbClr val="000000"/>
                </a:solidFill>
                <a:uFillTx/>
                <a:latin typeface="Sylfaen"/>
              </a:rPr>
              <a:t>Характеристики</a:t>
            </a:r>
            <a:r>
              <a:rPr b="0" lang="en-US" sz="2800" spc="-1" strike="noStrike">
                <a:solidFill>
                  <a:srgbClr val="000000"/>
                </a:solidFill>
                <a:latin typeface="Sylfae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4975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дълги 18 метра с капацитет най-малко 160 път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4975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височина на пода не повече от 350-360 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4975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функция за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снижаване, която ще позволява дясната страна на 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превозното средство 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да се спуска към спирките</a:t>
            </a: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49752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lfaen"/>
              </a:rPr>
              <a:t>рампа за инвалидни колички и свободно пространство за тях в интериора.</a:t>
            </a:r>
            <a:r>
              <a:rPr b="0" lang="bg-BG" sz="2400" spc="-1" strike="noStrike">
                <a:solidFill>
                  <a:srgbClr val="000000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47200" y="1240920"/>
            <a:ext cx="962532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6: Нова трамвайна линия от Семинарията до Дървениц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668320"/>
            <a:ext cx="9626400" cy="4260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Sylfaen"/>
              </a:rPr>
              <a:t>Той се състои от два подкомпонента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 algn="just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500" spc="-1" strike="noStrike" u="sng">
                <a:solidFill>
                  <a:srgbClr val="0a4600"/>
                </a:solidFill>
                <a:uFillTx/>
                <a:latin typeface="Sylfaen"/>
              </a:rPr>
              <a:t>подкомпонент 1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изграждане на около 2,8 км нов двоен трамваен релсов път от кръстовището на ул. „Стоян Михайловски” с бул. „Пейо К. Яворов” до кръстовището на бул. „Св. Климент Охридски” с бул. „Г.М. Димитров”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 algn="just">
              <a:lnSpc>
                <a:spcPct val="10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bg-BG" sz="2500" spc="-1" strike="noStrike" u="sng">
                <a:solidFill>
                  <a:srgbClr val="0a4600"/>
                </a:solidFill>
                <a:uFillTx/>
                <a:latin typeface="Sylfaen"/>
              </a:rPr>
              <a:t>подкомпонент 2</a:t>
            </a:r>
            <a:r>
              <a:rPr b="1" lang="bg-BG" sz="2500" spc="-1" strike="noStrike">
                <a:solidFill>
                  <a:srgbClr val="0a4600"/>
                </a:solidFill>
                <a:latin typeface="Sylfaen"/>
              </a:rPr>
              <a:t>:</a:t>
            </a:r>
            <a:r>
              <a:rPr b="1" lang="bg-BG" sz="2500" spc="-1" strike="noStrike">
                <a:solidFill>
                  <a:srgbClr val="000000"/>
                </a:solidFill>
                <a:latin typeface="Sylfaen"/>
              </a:rPr>
              <a:t> </a:t>
            </a: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реконструкция на 1,8 км релсов път, по протежение на бул. „Св. Климент Охридски” до обръщателно ухо Дървениц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1d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1360" y="1680840"/>
            <a:ext cx="9626760" cy="125892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808080"/>
            </a:outerShdw>
          </a:effectLst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Компонент 8: Рехабилитация на релсовия път по бул.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“</a:t>
            </a:r>
            <a:r>
              <a:rPr b="1" i="1" lang="bg-BG" sz="3500" spc="-1" strike="noStrike" u="sng">
                <a:solidFill>
                  <a:srgbClr val="000000"/>
                </a:solidFill>
                <a:uFillTx/>
                <a:latin typeface="Sylfaen"/>
              </a:rPr>
              <a:t>България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Sylfaen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0160" y="3105000"/>
            <a:ext cx="8886960" cy="3843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реконструкцията на пероните</a:t>
            </a: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ремонт на прилежащите подлези</a:t>
            </a: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монтиране на спиркови навеси</a:t>
            </a: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електронни информационни табла и електрозахранване</a:t>
            </a:r>
            <a:r>
              <a:rPr b="0" lang="en-US" sz="2500" spc="-1" strike="noStrike">
                <a:solidFill>
                  <a:srgbClr val="000000"/>
                </a:solidFill>
                <a:latin typeface="Sylfae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36640" indent="-554040" algn="just">
              <a:lnSpc>
                <a:spcPct val="12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bg-BG" sz="2500" spc="-1" strike="noStrike">
                <a:solidFill>
                  <a:srgbClr val="000000"/>
                </a:solidFill>
                <a:latin typeface="Sylfaen"/>
              </a:rPr>
              <a:t>пълна подмяна на релсовия път и ККМ (с нова контактна мрежа и стълбов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9:16:56Z</dcterms:created>
  <dc:creator>VVasileva</dc:creator>
  <dc:description/>
  <dc:language>en-US</dc:language>
  <cp:lastModifiedBy>PetrusenkoR</cp:lastModifiedBy>
  <dcterms:modified xsi:type="dcterms:W3CDTF">2012-08-17T13:07:15Z</dcterms:modified>
  <cp:revision>22</cp:revision>
  <dc:subject/>
  <dc:title>Sofia IUTP</dc:title>
</cp:coreProperties>
</file>