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37720" y="767880"/>
            <a:ext cx="54262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83F9BA-0151-4CC8-A896-9FF0208E3939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38080" y="768240"/>
            <a:ext cx="5426280" cy="3837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43645CF-5AEC-436B-AA53-F1DFC83ACEF8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53D-C7EB-4DD7-A7DE-3A25AB0D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4960" y="480276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567-91D4-4705-839A-4D315946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624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63E7-A3DE-48C4-BD17-4E1C1196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864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2680" y="266868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496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864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2680" y="4802760"/>
            <a:ext cx="3098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CFE-A043-4C49-AEEA-AB72D805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1B0-C876-48E3-8954-4403DD2B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9A12-DCD9-44B5-9A18-E1C30AA7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1AF-4231-4C14-BFE9-1D072EA3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F5E-A57E-4A63-865B-39BB1F27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7560" y="124128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6D99-08E1-41C9-B574-77CE737E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80EB-FEE1-4798-B283-7C475CFC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6240" y="480276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4D6-EC30-4C9C-A50A-C81D5F1D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496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6240" y="2668680"/>
            <a:ext cx="46962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960" y="4802760"/>
            <a:ext cx="962352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9070-1BAA-432B-ADC0-30C191D4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144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85000"/>
          </a:bodyPr>
          <a:p>
            <a:pPr marL="331920" indent="-3319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720360" indent="-2764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107720" indent="-221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551600" indent="-2210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1994400" indent="-22140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2AE3D59-77D6-4550-8FC6-D218D3FC24EF}" type="slidenum">
              <a:rPr b="0" lang="bg-BG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6D89EBD-B3A9-4E0C-86D7-04431D961BC8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7560" y="1398240"/>
            <a:ext cx="962352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900" spc="-1" strike="noStrike" u="sng">
                <a:solidFill>
                  <a:srgbClr val="0a4600"/>
                </a:solidFill>
                <a:uFillTx/>
                <a:latin typeface="Sylfaen"/>
              </a:rPr>
              <a:t>Интегриран градски транспорт на Варн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47560" y="2828880"/>
          <a:ext cx="9623520" cy="4245120"/>
        </p:xfrm>
        <a:graphic>
          <a:graphicData uri="http://schemas.openxmlformats.org/drawingml/2006/table">
            <a:tbl>
              <a:tblPr/>
              <a:tblGrid>
                <a:gridCol w="4811760"/>
                <a:gridCol w="4811760"/>
              </a:tblGrid>
              <a:tr h="53316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en-US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114 438 436 лв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en-US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90 999 831 лв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bg-BG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23 438 605</a:t>
                      </a:r>
                      <a:r>
                        <a:rPr b="1" lang="en-US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 </a:t>
                      </a:r>
                      <a:r>
                        <a:rPr b="1" lang="bg-BG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лв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30896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ru-RU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 за безвъзмездна финансова помо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en-US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9.07.2012 г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en-US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36 месец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115200" rIns="115200" tIns="57600" bIns="57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0" i="1" lang="en-US" sz="23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15200" rIns="115200" tIns="57600" bIns="576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1150920"/>
                          <a:tab algn="l" pos="2301840"/>
                          <a:tab algn="l" pos="3452760"/>
                          <a:tab algn="l" pos="4603680"/>
                          <a:tab algn="l" pos="5754600"/>
                          <a:tab algn="l" pos="6905520"/>
                          <a:tab algn="l" pos="8056440"/>
                          <a:tab algn="l" pos="9207360"/>
                          <a:tab algn="l" pos="10358280"/>
                        </a:tabLst>
                      </a:pPr>
                      <a:r>
                        <a:rPr b="1" lang="ru-RU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„</a:t>
                      </a:r>
                      <a:r>
                        <a:rPr b="1" lang="bg-BG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Градски транспорт</a:t>
                      </a:r>
                      <a:r>
                        <a:rPr b="1" lang="ru-RU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" ЕАД</a:t>
                      </a:r>
                      <a:r>
                        <a:rPr b="1" lang="bg-BG" sz="23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5200" marR="115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7560" y="1398240"/>
            <a:ext cx="9623520" cy="793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7: Съоръжения за колоезд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77FD38F-6ECF-4470-BDA4-E0C30A1D753F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084560" y="3859200"/>
            <a:ext cx="6059520" cy="300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4" name="Content Placeholder 2"/>
          <p:cNvSpPr/>
          <p:nvPr/>
        </p:nvSpPr>
        <p:spPr>
          <a:xfrm>
            <a:off x="379440" y="2192400"/>
            <a:ext cx="985212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 fontScale="89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300" spc="-1" strike="noStrike">
                <a:solidFill>
                  <a:srgbClr val="3c6400"/>
                </a:solidFill>
                <a:latin typeface="Sylfaen"/>
              </a:rPr>
              <a:t>Нови велоалеи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 - проектиране и изграждане на 3 трасета с обща дължина 14,5 км, </a:t>
            </a: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както и 2 връзки със съществуващите алеи (1,8 км) – показани са на картата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300" spc="-1" strike="noStrike">
                <a:solidFill>
                  <a:srgbClr val="3c6400"/>
                </a:solidFill>
                <a:latin typeface="Sylfaen"/>
              </a:rPr>
              <a:t>Съоръжения за паркиране</a:t>
            </a:r>
            <a:r>
              <a:rPr b="0" lang="bg-BG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до 50 съоръжения за паркиране на велосипеди, всяко с 8 до 12 места. Съоръженията ще се ползват безплатн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2"/>
          <p:cNvSpPr/>
          <p:nvPr/>
        </p:nvSpPr>
        <p:spPr>
          <a:xfrm>
            <a:off x="379440" y="4017960"/>
            <a:ext cx="3957480" cy="28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 fontScale="96000"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300" spc="-1" strike="noStrike">
                <a:solidFill>
                  <a:srgbClr val="3c6400"/>
                </a:solidFill>
                <a:latin typeface="Sylfaen"/>
              </a:rPr>
              <a:t>Информационна кампания за насърчаване на колоезденето - </a:t>
            </a: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кампания насочена към насърчаване на колоезденето като природосъобразен и екологичен транспорт в градска сред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9440" y="1398240"/>
            <a:ext cx="962352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: Подобрения на три крайни спи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4960" y="2906640"/>
            <a:ext cx="9623520" cy="4114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marL="505800" indent="-505800" algn="just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700" spc="-1" strike="noStrike">
                <a:solidFill>
                  <a:srgbClr val="3c6400"/>
                </a:solidFill>
                <a:latin typeface="Sylfaen"/>
              </a:rPr>
              <a:t>спирките обект на интервенция са</a:t>
            </a:r>
            <a:r>
              <a:rPr b="0" lang="bg-BG" sz="2700" spc="-1" strike="noStrike">
                <a:solidFill>
                  <a:srgbClr val="000000"/>
                </a:solidFill>
                <a:latin typeface="Sylfaen"/>
              </a:rPr>
              <a:t>: Владиславово, Бриз и Аспарухов мост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just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700" spc="-1" strike="noStrike">
                <a:solidFill>
                  <a:srgbClr val="3c6400"/>
                </a:solidFill>
                <a:latin typeface="Sylfaen"/>
              </a:rPr>
              <a:t>предвидени интервенции</a:t>
            </a:r>
            <a:r>
              <a:rPr b="0" lang="bg-BG" sz="2700" spc="-1" strike="noStrike">
                <a:solidFill>
                  <a:srgbClr val="000000"/>
                </a:solidFill>
                <a:latin typeface="Sylfaen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39160" indent="-321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рехабилитация на пътна настилка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, в т. ч. сигнализация и марк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160" indent="-321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дновяване и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облагородяване на пешеходни зони и перони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за изчакване на 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160" indent="-321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дновяване и изграждане на понижени бордю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160" indent="-321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поставяне на информационни табели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и карти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160" indent="-321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ремонт на диспечърски оф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AB100C7-4E43-4C88-978F-7BDD58692EDF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7560" y="1398600"/>
            <a:ext cx="9623520" cy="1022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marL="390600"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9: Подобрения на производствено- техническата б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4960" y="2668680"/>
            <a:ext cx="962352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marL="500760" indent="-50076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Sylfaen"/>
              </a:rPr>
              <a:t>Рехабилитация и модернизация на производствено-техническата база (ПТБ) на „Градски транспорт“ ЕАД, включващо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Изграждане на съоръжения за отделяне на зоната за поддържане и ремонт на автобусите на СПГ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Ремонт на електрическата система в халетата за техническо обслужване и ремон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Системи за пожароизвестяване и детекция на газ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Ремонт и подновяване на халетата за техническо обслужване и ремон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Ремонт на контактната мрежа в депот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Закупуване на ново и подмяна на съществуващото оборудване за ремонт на подвижния съста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0760" indent="-500760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Ремонт и рехабилитация на пътната настилка на територията на производствено-техническата баз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D532553-9762-48BE-88E5-A3DD74F08AB3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7200" y="1398240"/>
            <a:ext cx="9875880" cy="1508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0: Мерки за достъпност и подобряване на статичната информация на спирките на МГ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7560" y="2986200"/>
            <a:ext cx="9623520" cy="4209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marL="681120" indent="-681120" algn="just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3c6400"/>
                </a:solidFill>
                <a:latin typeface="Sylfaen"/>
              </a:rPr>
              <a:t>Мерки за достъпност за пътуващите</a:t>
            </a: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: понижени тротоари до спирките; пешеходни пътеки в близост до спирките; нова настилка, вкл. специална такава срещу заледяване, на автобусните спирки и рампите; Динамична информация за движението на МГОТ ще бъде налична на интернет страницата на Общината и/или на оператора на пътническата информационна система, както и посредством приложение за мобилни телефо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 algn="just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3c6400"/>
                </a:solidFill>
                <a:latin typeface="Sylfaen"/>
              </a:rPr>
              <a:t>Мерки за достъпност за хора със специфични потребности</a:t>
            </a: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: звукова сигнализация за хора със зрителни увреждания на кръстовищата, на автобусните спирки и в автобусите; инсталиране на рампи за инвалидни колички в 30 от старите ПС на МГОТ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81120" indent="-681120" algn="just">
              <a:lnSpc>
                <a:spcPct val="8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100" spc="-1" strike="noStrike">
                <a:solidFill>
                  <a:srgbClr val="3c6400"/>
                </a:solidFill>
                <a:latin typeface="Sylfaen"/>
              </a:rPr>
              <a:t>Подобряване на статичната информация</a:t>
            </a: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ru-RU" sz="2100" spc="-1" strike="noStrike">
                <a:solidFill>
                  <a:srgbClr val="3c6400"/>
                </a:solidFill>
                <a:latin typeface="Sylfaen"/>
              </a:rPr>
              <a:t>на спирките на МГОТ</a:t>
            </a: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: поставяне на информационни табла за маршрутната мрежа, местоположението на спирката и възможните връзки с други линии на МГОТ, както и на разписанията за движение на П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FF07D64-81FF-42CF-A357-605C4A29F7D0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7560" y="1241280"/>
            <a:ext cx="9623520" cy="8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7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4960" y="2271600"/>
            <a:ext cx="9623520" cy="4525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Ефективен и бърз масов градски обществен транспорт (МГОТ) с по-малко потребление на енер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-достъпна вторична инфраструктура на обществените транспортни мре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Въвеждане на природо-съобразни видове градски 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вишаване на привлекателността и степента на използване на М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одобряване функционалността на града и мобилността на население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Намаляване на задръстванията и повишаване възможностите на М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4000" indent="-583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Социално включване и равен достъп на групите в неравностойно 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B244ED1-2F23-4D9B-A481-8F3953AEA5BA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7560" y="1479240"/>
            <a:ext cx="9623520" cy="87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13880" y="2509560"/>
            <a:ext cx="9625320" cy="4128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Автоматизирана билетна сист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Предимства на превозните средства на МГОТ на кръстовищ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Система за информация на пътниците в реално вр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Център за управление на МГ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en-US" sz="2200" spc="-1" strike="noStrike">
                <a:solidFill>
                  <a:srgbClr val="0a4600"/>
                </a:solidFill>
                <a:latin typeface="Sylfaen"/>
              </a:rPr>
              <a:t>BRT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 коридор (бърза автобусна линия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</a:t>
            </a: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Подвижен съста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Компонент 7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Съоръжения за колоезд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Компонент 8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Подобрения на три крайни спир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Компонент 9:</a:t>
            </a:r>
            <a:r>
              <a:rPr b="1" lang="bg-BG" sz="2200" spc="-1" strike="noStrike">
                <a:solidFill>
                  <a:srgbClr val="0000ff"/>
                </a:solidFill>
                <a:latin typeface="Sylfaen"/>
              </a:rPr>
              <a:t>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Подобрения на производствено- техническата б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Sylfaen"/>
              </a:rPr>
              <a:t>Компонент 10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200" spc="-1" strike="noStrike">
                <a:solidFill>
                  <a:srgbClr val="0a4600"/>
                </a:solidFill>
                <a:latin typeface="Sylfaen"/>
              </a:rPr>
              <a:t>Мерки за достъпност и подобряване на статичната  информация на спирките на МГО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0B27319-B770-4909-890B-07DF7D3FD1D7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880" y="1398240"/>
            <a:ext cx="9624960" cy="87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 Автоматизирана билетна систе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1800" y="2352600"/>
            <a:ext cx="9623520" cy="4603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5000"/>
          </a:bodyPr>
          <a:p>
            <a:pPr marL="485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Този компонент включва проектиране, доставка и инсталация на оборудване, свързано с автоматизираната билетна система, основните елементи от което 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Машини за продажба на билети в превозните средства и на спирки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Устройства за валидиране на билетите, инсталирани на спирките и в превозните средст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Предплатени смарт карти с паме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Преносими устройства за проверка на смарт и други видове кар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85640" indent="-4856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Контролен център и централен офис – тук се включват компютърна система, която може да управлява всички транзакции с билети/карти, включително контрол на системата, устройствата за проверка, отчети за парични транзакции на превозвачи и контрольор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961D4C4-2BC4-41C7-BB00-5CDF0A23DDA9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7200" y="1557360"/>
            <a:ext cx="9766440" cy="103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Предимство на превозните средства за МГОТ  на кръстовища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3400" y="3382560"/>
            <a:ext cx="3537000" cy="3335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всички 27 светлинно-регулирани кръстовищата по BRT коридора посредством автоматизирано управление светофарните уредб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Предлаганото местоположение е представено на карта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187880" y="3543480"/>
            <a:ext cx="6505560" cy="35067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293760" y="2828880"/>
            <a:ext cx="1010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 fontScale="85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Компонентът включва проектиране, доставка и инсталиране на оборудване за система за осигуряване предимство на превозните средства на МГОТ 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E3D860B-A196-46B1-9691-455B0B6DDA2D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1319040"/>
            <a:ext cx="9624960" cy="126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 : Система за информация на пътниците в реално врем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477720" y="2747880"/>
            <a:ext cx="96681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marL="511200" indent="-511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Компонентът включва проектиране, доставка и инсталиране на оборудване за система за информация на пътниците в реално време със следните моду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 algn="just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3c6400"/>
                </a:solidFill>
                <a:latin typeface="Sylfaen"/>
              </a:rPr>
              <a:t>Информационни табла на спирките:</a:t>
            </a:r>
            <a:r>
              <a:rPr b="0" lang="ru-RU" sz="2500" spc="-1" strike="noStrike">
                <a:solidFill>
                  <a:srgbClr val="000000"/>
                </a:solidFill>
                <a:latin typeface="Sylfaen"/>
              </a:rPr>
              <a:t> Предвижда се закупуването на 3-редови информационни табла (по едно за всяка BRT спирка, както и на спирките на 12 допълнителни стратегически места общо 84 бр.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 algn="just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3c6400"/>
                </a:solidFill>
                <a:latin typeface="Sylfaen"/>
              </a:rPr>
              <a:t>Електронни информационни табла за пътниците в превозните средства (ПС).</a:t>
            </a:r>
            <a:r>
              <a:rPr b="0" lang="ru-RU" sz="2500" spc="-1" strike="noStrike">
                <a:solidFill>
                  <a:srgbClr val="000000"/>
                </a:solidFill>
                <a:latin typeface="Sylfaen"/>
              </a:rPr>
              <a:t> Всяко ПС на BRT ще бъде оборудвано с по 2 едноредови панела, на които ще се изписва информация за пътниците (номер на линията, направление, име на следващата спирка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8DB99FD-35E2-4570-A243-47DA9B57FA52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1880" y="1479600"/>
            <a:ext cx="9624960" cy="103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 Център за управление на МГО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1880" y="2590560"/>
            <a:ext cx="9624960" cy="45241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3000"/>
          </a:bodyPr>
          <a:p>
            <a:pPr marL="38232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ylfaen"/>
              </a:rPr>
              <a:t>Компонентът включва закупуване н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-382320" algn="just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3c6400"/>
                </a:solidFill>
                <a:latin typeface="Sylfaen"/>
              </a:rPr>
              <a:t>софтуер за автоматична локализация на превозните средств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-382320" algn="just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3c6400"/>
                </a:solidFill>
                <a:latin typeface="Sylfaen"/>
              </a:rPr>
              <a:t>доставка и монтаж на съответния хардуе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Sylfaen"/>
              </a:rPr>
              <a:t>Центърът за управление има две основни цел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-382320" algn="just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Sylfaen"/>
              </a:rPr>
              <a:t>Служи за изчисляване на времето за пристигане на превозните средства до спирките и пренася данните до съответните терминали (спирки, онлайн и мобилни информационни приложения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320" indent="-382320" algn="just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Sylfaen"/>
              </a:rPr>
              <a:t>Управлява автобусния парк като контролира местоположенията на ПС, изпълнява диспечерски функции, регистрира закъсненията и води статистика за експлоатация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DF64E1C-559B-4B97-AD5A-18FF523A15EC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7560" y="1240920"/>
            <a:ext cx="962352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marL="390600"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: </a:t>
            </a: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BRT</a:t>
            </a:r>
            <a:r>
              <a:rPr b="1" i="1" lang="bg-BG" sz="3400" spc="-1" strike="noStrike" u="sng">
                <a:solidFill>
                  <a:srgbClr val="000000"/>
                </a:solidFill>
                <a:uFillTx/>
                <a:latin typeface="Sylfaen"/>
              </a:rPr>
              <a:t> коридо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1880" y="3620880"/>
            <a:ext cx="4424400" cy="1509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lvl="1" marL="511200" indent="-30636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3c6400"/>
                </a:solidFill>
                <a:latin typeface="Sylfaen"/>
              </a:rPr>
              <a:t>Вариант А</a:t>
            </a: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 - дължина 14.85 км, изграждане на 28 спирки плюс 2 край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-30636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3c6400"/>
                </a:solidFill>
                <a:latin typeface="Sylfaen"/>
              </a:rPr>
              <a:t>Вариант Б</a:t>
            </a:r>
            <a:r>
              <a:rPr b="0" lang="en-US" sz="1800" spc="-1" strike="noStrike">
                <a:solidFill>
                  <a:srgbClr val="000000"/>
                </a:solidFill>
                <a:latin typeface="Sylfaen"/>
              </a:rPr>
              <a:t> - дължина 14.60 км, изграждане на 29 спирки плюс 2 край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5146560" y="3463920"/>
            <a:ext cx="5546880" cy="29876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461880" y="2112840"/>
            <a:ext cx="9937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 fontScale="93000"/>
          </a:bodyPr>
          <a:p>
            <a:pPr lvl="1" marL="1904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Компонентът включва проектиране и изграждане на </a:t>
            </a:r>
            <a:r>
              <a:rPr b="0" lang="en-US" sz="2100" spc="-1" strike="noStrike">
                <a:solidFill>
                  <a:srgbClr val="000000"/>
                </a:solidFill>
                <a:latin typeface="Sylfaen"/>
              </a:rPr>
              <a:t>BRT </a:t>
            </a:r>
            <a:r>
              <a:rPr b="0" lang="bg-BG" sz="2100" spc="-1" strike="noStrike">
                <a:solidFill>
                  <a:srgbClr val="000000"/>
                </a:solidFill>
                <a:latin typeface="Sylfaen"/>
              </a:rPr>
              <a:t>коридор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500" spc="-1" strike="noStrike">
                <a:solidFill>
                  <a:srgbClr val="3c6400"/>
                </a:solidFill>
                <a:latin typeface="Sylfaen"/>
              </a:rPr>
              <a:t>Коридор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100" spc="-1" strike="noStrike">
                <a:solidFill>
                  <a:srgbClr val="000000"/>
                </a:solidFill>
                <a:latin typeface="Sylfaen"/>
              </a:rPr>
              <a:t>„Владиславово – Център – Бриз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90440"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ru-RU" sz="2500" spc="-1" strike="noStrike">
                <a:solidFill>
                  <a:srgbClr val="3c6400"/>
                </a:solidFill>
                <a:latin typeface="Sylfaen"/>
              </a:rPr>
              <a:t>Трасе</a:t>
            </a: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Sylfaen"/>
              </a:rPr>
              <a:t>2 под-варианта (представени на картата) в участъка между бул. „Янош Хунияди“ и ул. „Христо Смирненски“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31800" y="5208480"/>
            <a:ext cx="4422960" cy="21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lvl="1" marL="2048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lfaen"/>
              </a:rPr>
              <a:t>Анализ на техническите характеристики на трасетата и избор на един от вариантите ще бъде извършен в етапа на изготвянето на техническия проект за цялото BRT тра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9556920" y="6885000"/>
            <a:ext cx="6015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8D392D8-BDAA-4A9E-B5DD-2108FBC02428}" type="slidenum">
              <a:rPr b="0" lang="bg-BG" sz="1600" spc="-1" strike="noStrike">
                <a:solidFill>
                  <a:srgbClr val="000000"/>
                </a:solidFill>
                <a:latin typeface="Sylfae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7560" y="1398240"/>
            <a:ext cx="9623520" cy="87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: Подвижен съста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2720" y="2352240"/>
            <a:ext cx="8856720" cy="4475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marL="600120" indent="-60012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30 съчленени автобуси с дизелови двигатели, емисионен клас ЕВРО 6, които да обслужват BRT корид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20 единични автобуси с дизелови двигатели, емисионен клас ЕВРО 6, които ще обслужват редовните градски линии на М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20 единични автобуси с двигатели на сгъстен природен газ (СПГ) – също за редовните градски линии на МГ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9T08:03:51Z</dcterms:created>
  <dc:creator>VVasileva</dc:creator>
  <dc:description/>
  <dc:language>en-US</dc:language>
  <cp:lastModifiedBy>PetrusenkoR</cp:lastModifiedBy>
  <dcterms:modified xsi:type="dcterms:W3CDTF">2012-08-17T13:06:42Z</dcterms:modified>
  <cp:revision>108</cp:revision>
  <dc:subject/>
  <dc:title>Varna IUTP</dc:title>
</cp:coreProperties>
</file>