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691813" cy="7559675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37720" y="767880"/>
            <a:ext cx="54262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560484-9DD4-4E6F-B4C4-039975229472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38080" y="768240"/>
            <a:ext cx="5426280" cy="3837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6DECB5-3BB6-4F89-BA8C-C40B998EA5D9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FB75-161A-481A-A5A1-D4727E66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9623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4960" y="4802760"/>
            <a:ext cx="9623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AD0-CA41-40B4-9356-BE334D06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624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4960" y="480276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66240" y="480276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EE3-1187-414D-AF77-B5A699AB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8640" y="266868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42680" y="266868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4960" y="480276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88640" y="480276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42680" y="480276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5F5-D919-4963-85FF-9012D542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4960" y="2668680"/>
            <a:ext cx="962352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5838-09F6-4D01-9026-0B2F87A5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962352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969-C97D-4004-96CC-122DED5E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46962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6240" y="2668680"/>
            <a:ext cx="46962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DC1-81FB-4C26-99A1-78306690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DFD-0A6B-4B21-9C83-6D1BECF1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47560" y="124128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BE1-A20D-44D8-BB47-27B765DD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66240" y="2668680"/>
            <a:ext cx="46962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4960" y="480276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D91-2FAF-45E1-868D-74B6EF8E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46962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6624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66240" y="480276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AD16-D511-4925-80E3-8805322D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624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4960" y="4802760"/>
            <a:ext cx="9623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E12-E6F2-479D-9AC3-4AA901E6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93440" cy="144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4960" y="2668680"/>
            <a:ext cx="962352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85000"/>
          </a:bodyPr>
          <a:p>
            <a:pPr marL="331920" indent="-3319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64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107720" indent="-2210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551600" indent="-2210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1994400" indent="-2214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1994400" indent="-2214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1994400" indent="-2214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BA2C59F-C608-48EA-88AA-31903B3F9695}" type="slidenum">
              <a:rPr b="0" lang="bg-BG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4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A4200A1-B72E-461C-A117-2B0E6A6BBE8A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7560" y="1398240"/>
            <a:ext cx="962352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900" spc="-1" strike="noStrike" u="sng">
                <a:solidFill>
                  <a:srgbClr val="0a4600"/>
                </a:solidFill>
                <a:uFillTx/>
                <a:latin typeface="Sylfaen"/>
              </a:rPr>
              <a:t>Интегриран градски транспорт на Варн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47560" y="2828880"/>
          <a:ext cx="9623520" cy="4245120"/>
        </p:xfrm>
        <a:graphic>
          <a:graphicData uri="http://schemas.openxmlformats.org/drawingml/2006/table">
            <a:tbl>
              <a:tblPr/>
              <a:tblGrid>
                <a:gridCol w="4811760"/>
                <a:gridCol w="4811760"/>
              </a:tblGrid>
              <a:tr h="533160">
                <a:tc>
                  <a:txBody>
                    <a:bodyPr lIns="115200" rIns="115200" tIns="576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Обща стойност на проект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15200" rIns="115200" tIns="57600" bIns="57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1" lang="en-US" sz="23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114 438 436 лв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115200" rIns="115200" tIns="576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Безвъзмездна финансова помо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15200" rIns="115200" tIns="57600" bIns="57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1" lang="en-US" sz="23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90 999 831 лв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115200" rIns="115200" tIns="576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обствен прино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15200" rIns="115200" tIns="57600" bIns="57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1" lang="bg-BG" sz="23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23 438 605</a:t>
                      </a:r>
                      <a:r>
                        <a:rPr b="1" lang="en-US" sz="23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 </a:t>
                      </a:r>
                      <a:r>
                        <a:rPr b="1" lang="bg-BG" sz="23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лв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1308960">
                <a:tc>
                  <a:txBody>
                    <a:bodyPr lIns="115200" rIns="115200" tIns="576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0" i="1" lang="ru-RU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Дата на подписване на договор за безвъзмездна финансова помо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15200" rIns="115200" tIns="57600" bIns="57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1" lang="en-US" sz="23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9.07.2012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115200" rIns="115200" tIns="576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рок за изпълнение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15200" rIns="115200" tIns="57600" bIns="57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1" lang="en-US" sz="23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36 месец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115200" rIns="115200" tIns="576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артньор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15200" rIns="115200" tIns="57600" bIns="57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1" lang="ru-RU" sz="23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„</a:t>
                      </a:r>
                      <a:r>
                        <a:rPr b="1" lang="bg-BG" sz="23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Градски транспорт</a:t>
                      </a:r>
                      <a:r>
                        <a:rPr b="1" lang="ru-RU" sz="23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" ЕАД</a:t>
                      </a:r>
                      <a:r>
                        <a:rPr b="1" lang="bg-BG" sz="23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7560" y="1398240"/>
            <a:ext cx="9623520" cy="793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7: Съоръжения за колоезд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5D84CA4-76BD-414B-943A-D21B8E74EE91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084560" y="3859200"/>
            <a:ext cx="6059520" cy="300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4" name="Content Placeholder 2"/>
          <p:cNvSpPr/>
          <p:nvPr/>
        </p:nvSpPr>
        <p:spPr>
          <a:xfrm>
            <a:off x="379440" y="2192400"/>
            <a:ext cx="985212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 fontScale="89000"/>
          </a:bodyPr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300" spc="-1" strike="noStrike">
                <a:solidFill>
                  <a:srgbClr val="3c6400"/>
                </a:solidFill>
                <a:latin typeface="Sylfaen"/>
              </a:rPr>
              <a:t>Нови велоалеи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 - проектиране и изграждане на 3 трасета с обща дължина 14,5 км, </a:t>
            </a: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както и 2 връзки със съществуващите алеи (1,8 км) – показани са на картата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300" spc="-1" strike="noStrike">
                <a:solidFill>
                  <a:srgbClr val="3c6400"/>
                </a:solidFill>
                <a:latin typeface="Sylfaen"/>
              </a:rPr>
              <a:t>Съоръжения за паркиране</a:t>
            </a: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- </a:t>
            </a: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до 50 съоръжения за паркиране на велосипеди, всяко с 8 до 12 места. Съоръженията ще се ползват безплатн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tent Placeholder 2"/>
          <p:cNvSpPr/>
          <p:nvPr/>
        </p:nvSpPr>
        <p:spPr>
          <a:xfrm>
            <a:off x="379440" y="4017960"/>
            <a:ext cx="3957480" cy="28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 fontScale="96000"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300" spc="-1" strike="noStrike">
                <a:solidFill>
                  <a:srgbClr val="3c6400"/>
                </a:solidFill>
                <a:latin typeface="Sylfaen"/>
              </a:rPr>
              <a:t>Информационна кампания за насърчаване на колоезденето - </a:t>
            </a: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кампания насочена към насърчаване на колоезденето като природосъобразен и екологичен транспорт в градска сред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9440" y="1398240"/>
            <a:ext cx="962352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8: Подобрения на три крайни спир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4960" y="2906640"/>
            <a:ext cx="9623520" cy="411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9000"/>
          </a:bodyPr>
          <a:p>
            <a:pPr marL="505800" indent="-505800" algn="just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700" spc="-1" strike="noStrike">
                <a:solidFill>
                  <a:srgbClr val="3c6400"/>
                </a:solidFill>
                <a:latin typeface="Sylfaen"/>
              </a:rPr>
              <a:t>спирките обект на интервенция са</a:t>
            </a:r>
            <a:r>
              <a:rPr b="0" lang="bg-BG" sz="2700" spc="-1" strike="noStrike">
                <a:solidFill>
                  <a:srgbClr val="000000"/>
                </a:solidFill>
                <a:latin typeface="Sylfaen"/>
              </a:rPr>
              <a:t>: Владиславово, Бриз и Аспарухов мост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 algn="just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700" spc="-1" strike="noStrike">
                <a:solidFill>
                  <a:srgbClr val="3c6400"/>
                </a:solidFill>
                <a:latin typeface="Sylfaen"/>
              </a:rPr>
              <a:t>предвидени интервенции</a:t>
            </a:r>
            <a:r>
              <a:rPr b="0" lang="bg-BG" sz="2700" spc="-1" strike="noStrike">
                <a:solidFill>
                  <a:srgbClr val="000000"/>
                </a:solidFill>
                <a:latin typeface="Sylfae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39160" indent="-321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рехабилитация на пътна настилка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, в т. ч. сигнализация и марк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160" indent="-321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подновяване и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облагородяване на пешеходни зони и перони 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за изчакване на 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160" indent="-321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подновяване и изграждане на понижени бордю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160" indent="-321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поставяне на информационни табели 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и карти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160" indent="-321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ремонт на диспечърски офи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8EFC721-AABC-44E8-96E8-87AB9ACBC248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7560" y="1398600"/>
            <a:ext cx="9623520" cy="1022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marL="390600"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9: Подобрения на производствено- техническата б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4960" y="2668680"/>
            <a:ext cx="962352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8000"/>
          </a:bodyPr>
          <a:p>
            <a:pPr marL="500760" indent="-5007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Sylfaen"/>
              </a:rPr>
              <a:t>Рехабилитация и модернизация на производствено-техническата база (ПТБ) на „Градски транспорт“ ЕАД, включващо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0760" indent="-50076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Изграждане на съоръжения за отделяне на зоната за поддържане и ремонт на автобусите на СП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0760" indent="-50076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Ремонт на електрическата система в халетата за техническо обслужване и ремон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0760" indent="-50076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Системи за пожароизвестяване и детекция на га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0760" indent="-50076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Ремонт и подновяване на халетата за техническо обслужване и ремон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0760" indent="-50076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Ремонт на контактната мрежа в депот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0760" indent="-50076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6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Закупуване на ново и подмяна на съществуващото оборудване за ремонт на подвижния съста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0760" indent="-50076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7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Ремонт и рехабилитация на пътната настилка на територията на производствено-техническата баз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77B9DE4-BE0F-4DCD-BDB6-77CE9C2C1E43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7200" y="1398240"/>
            <a:ext cx="9875880" cy="1508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0: Мерки за достъпност и подобряване на статичната информация на спирките на МГ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7560" y="2986200"/>
            <a:ext cx="9623520" cy="4209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8000"/>
          </a:bodyPr>
          <a:p>
            <a:pPr marL="681120" indent="-681120" algn="just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100" spc="-1" strike="noStrike">
                <a:solidFill>
                  <a:srgbClr val="3c6400"/>
                </a:solidFill>
                <a:latin typeface="Sylfaen"/>
              </a:rPr>
              <a:t>Мерки за достъпност за пътуващите</a:t>
            </a: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: понижени тротоари до спирките; пешеходни пътеки в близост до спирките; нова настилка, вкл. специална такава срещу заледяване, на автобусните спирки и рампите; Динамична информация за движението на МГОТ ще бъде налична на интернет страницата на Общината и/или на оператора на пътническата информационна система, както и посредством приложение за мобилни телефон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81120" indent="-681120" algn="just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100" spc="-1" strike="noStrike">
                <a:solidFill>
                  <a:srgbClr val="3c6400"/>
                </a:solidFill>
                <a:latin typeface="Sylfaen"/>
              </a:rPr>
              <a:t>Мерки за достъпност за хора със специфични потребности</a:t>
            </a: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: звукова сигнализация за хора със зрителни увреждания на кръстовищата, на автобусните спирки и в автобусите; инсталиране на рампи за инвалидни колички в 30 от старите ПС на МГОТ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81120" indent="-681120" algn="just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100" spc="-1" strike="noStrike">
                <a:solidFill>
                  <a:srgbClr val="3c6400"/>
                </a:solidFill>
                <a:latin typeface="Sylfaen"/>
              </a:rPr>
              <a:t>Подобряване на статичната информация</a:t>
            </a: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2100" spc="-1" strike="noStrike">
                <a:solidFill>
                  <a:srgbClr val="3c6400"/>
                </a:solidFill>
                <a:latin typeface="Sylfaen"/>
              </a:rPr>
              <a:t>на спирките на МГОТ</a:t>
            </a: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: поставяне на информационни табла за маршрутната мрежа, местоположението на спирката и възможните връзки с други линии на МГОТ, както и на разписанията за движение на П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91F530A-5503-43F5-B03B-94491C4D5EF2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8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4700" spc="-1" strike="noStrike" u="sng">
                <a:solidFill>
                  <a:srgbClr val="000000"/>
                </a:solidFill>
                <a:uFillTx/>
                <a:latin typeface="Sylfaen"/>
              </a:rPr>
              <a:t>Цели на проект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4960" y="2271600"/>
            <a:ext cx="9623520" cy="4525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7000"/>
          </a:bodyPr>
          <a:p>
            <a:pPr marL="594000" indent="-583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Ефективен и бърз масов градски обществен транспорт (МГОТ) с по-малко потребление на е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4000" indent="-583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По-достъпна вторична инфраструктура на обществените транспортни мре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4000" indent="-583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Въвеждане на природо-съобразни видове градски тран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4000" indent="-583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Повишаване на привлекателността и степента на използване на МГ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4000" indent="-583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Подобряване функционалността на града и мобилността на население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4000" indent="-583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Намаляване на задръстванията и повишаване възможностите на МГ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4000" indent="-583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Социално включване и равен достъп на групите в неравностойно пол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4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2377C39-6E2C-4611-9502-9E77B5DF9BA1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7560" y="1479240"/>
            <a:ext cx="9623520" cy="87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и на проек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3880" y="2509560"/>
            <a:ext cx="9625320" cy="4128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7000"/>
          </a:bodyPr>
          <a:p>
            <a:pPr marL="378720" indent="-3787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</a:t>
            </a:r>
            <a:r>
              <a:rPr b="1" lang="bg-BG" sz="2200" spc="-1" strike="noStrike">
                <a:solidFill>
                  <a:srgbClr val="000000"/>
                </a:solidFill>
                <a:latin typeface="Sylfaen"/>
              </a:rPr>
              <a:t>:</a:t>
            </a:r>
            <a:r>
              <a:rPr b="1" lang="bg-BG" sz="22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bg-BG" sz="2200" spc="-1" strike="noStrike">
                <a:solidFill>
                  <a:srgbClr val="0a4600"/>
                </a:solidFill>
                <a:latin typeface="Sylfaen"/>
              </a:rPr>
              <a:t>Автоматизирана билетна сист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2</a:t>
            </a:r>
            <a:r>
              <a:rPr b="1" lang="bg-BG" sz="2200" spc="-1" strike="noStrike">
                <a:solidFill>
                  <a:srgbClr val="000000"/>
                </a:solidFill>
                <a:latin typeface="Sylfaen"/>
              </a:rPr>
              <a:t>:</a:t>
            </a:r>
            <a:r>
              <a:rPr b="1" lang="bg-BG" sz="22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bg-BG" sz="2200" spc="-1" strike="noStrike">
                <a:solidFill>
                  <a:srgbClr val="0a4600"/>
                </a:solidFill>
                <a:latin typeface="Sylfaen"/>
              </a:rPr>
              <a:t>Предимства на превозните средства на МГОТ на кръстовищ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</a:t>
            </a:r>
            <a:r>
              <a:rPr b="1" lang="bg-BG" sz="2200" spc="-1" strike="noStrike">
                <a:solidFill>
                  <a:srgbClr val="000000"/>
                </a:solidFill>
                <a:latin typeface="Sylfaen"/>
              </a:rPr>
              <a:t>:</a:t>
            </a:r>
            <a:r>
              <a:rPr b="1" lang="bg-BG" sz="22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bg-BG" sz="2200" spc="-1" strike="noStrike">
                <a:solidFill>
                  <a:srgbClr val="0a4600"/>
                </a:solidFill>
                <a:latin typeface="Sylfaen"/>
              </a:rPr>
              <a:t>Система за информация на пътниците в реално вре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4</a:t>
            </a:r>
            <a:r>
              <a:rPr b="1" lang="bg-BG" sz="2200" spc="-1" strike="noStrike">
                <a:solidFill>
                  <a:srgbClr val="000000"/>
                </a:solidFill>
                <a:latin typeface="Sylfaen"/>
              </a:rPr>
              <a:t>:</a:t>
            </a:r>
            <a:r>
              <a:rPr b="1" lang="bg-BG" sz="22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bg-BG" sz="2200" spc="-1" strike="noStrike">
                <a:solidFill>
                  <a:srgbClr val="0a4600"/>
                </a:solidFill>
                <a:latin typeface="Sylfaen"/>
              </a:rPr>
              <a:t>Център за управление на МГ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5</a:t>
            </a:r>
            <a:r>
              <a:rPr b="1" lang="bg-BG" sz="2200" spc="-1" strike="noStrike">
                <a:solidFill>
                  <a:srgbClr val="000000"/>
                </a:solidFill>
                <a:latin typeface="Sylfaen"/>
              </a:rPr>
              <a:t>:</a:t>
            </a:r>
            <a:r>
              <a:rPr b="1" lang="bg-BG" sz="22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en-US" sz="2200" spc="-1" strike="noStrike">
                <a:solidFill>
                  <a:srgbClr val="0a4600"/>
                </a:solidFill>
                <a:latin typeface="Sylfaen"/>
              </a:rPr>
              <a:t>BRT</a:t>
            </a:r>
            <a:r>
              <a:rPr b="0" lang="bg-BG" sz="2200" spc="-1" strike="noStrike">
                <a:solidFill>
                  <a:srgbClr val="0a4600"/>
                </a:solidFill>
                <a:latin typeface="Sylfaen"/>
              </a:rPr>
              <a:t> коридор (бърза автобусна лин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6</a:t>
            </a:r>
            <a:r>
              <a:rPr b="1" lang="bg-BG" sz="2200" spc="-1" strike="noStrike">
                <a:solidFill>
                  <a:srgbClr val="000000"/>
                </a:solidFill>
                <a:latin typeface="Sylfaen"/>
              </a:rPr>
              <a:t>:</a:t>
            </a:r>
            <a:r>
              <a:rPr b="1" lang="bg-BG" sz="22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bg-BG" sz="2200" spc="-1" strike="noStrike">
                <a:solidFill>
                  <a:srgbClr val="0a4600"/>
                </a:solidFill>
                <a:latin typeface="Sylfaen"/>
              </a:rPr>
              <a:t>Подвижен съста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Sylfaen"/>
              </a:rPr>
              <a:t>Компонент 7:</a:t>
            </a:r>
            <a:r>
              <a:rPr b="1" lang="bg-BG" sz="22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bg-BG" sz="2200" spc="-1" strike="noStrike">
                <a:solidFill>
                  <a:srgbClr val="0a4600"/>
                </a:solidFill>
                <a:latin typeface="Sylfaen"/>
              </a:rPr>
              <a:t>Съоръжения за колоезд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Sylfaen"/>
              </a:rPr>
              <a:t>Компонент 8:</a:t>
            </a:r>
            <a:r>
              <a:rPr b="1" lang="bg-BG" sz="22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bg-BG" sz="2200" spc="-1" strike="noStrike">
                <a:solidFill>
                  <a:srgbClr val="0a4600"/>
                </a:solidFill>
                <a:latin typeface="Sylfaen"/>
              </a:rPr>
              <a:t>Подобрения на три крайни спир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Sylfaen"/>
              </a:rPr>
              <a:t>Компонент 9:</a:t>
            </a:r>
            <a:r>
              <a:rPr b="1" lang="bg-BG" sz="22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bg-BG" sz="2200" spc="-1" strike="noStrike">
                <a:solidFill>
                  <a:srgbClr val="0a4600"/>
                </a:solidFill>
                <a:latin typeface="Sylfaen"/>
              </a:rPr>
              <a:t>Подобрения на производствено- техническата б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Sylfaen"/>
              </a:rPr>
              <a:t>Компонент 10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200" spc="-1" strike="noStrike">
                <a:solidFill>
                  <a:srgbClr val="0a4600"/>
                </a:solidFill>
                <a:latin typeface="Sylfaen"/>
              </a:rPr>
              <a:t>Мерки за достъпност и подобряване на статичната  информация на спирките на МГ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4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6A9EB56-34C8-4583-9C6D-2E5104284101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1880" y="1398240"/>
            <a:ext cx="9624960" cy="87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: Автоматизирана билетна систем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1800" y="2352600"/>
            <a:ext cx="9623520" cy="4603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5000"/>
          </a:bodyPr>
          <a:p>
            <a:pPr marL="485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Този компонент включва проектиране, доставка и инсталация на оборудване, свързано с автоматизираната билетна система, основните елементи от което 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Машини за продажба на билети в превозните средства и на спирки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Устройства за валидиране на билетите, инсталирани на спирките и в превозните средст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Предплатени смарт карти с паме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Преносими устройства за проверка на смарт и други видове кар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Контролен център и централен офис – тук се включват компютърна система, която може да управлява всички транзакции с билети/карти, включително контрол на системата, устройствата за проверка, отчети за парични транзакции на превозвачи и контрольор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4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DDC3AC6-62EE-476E-85CF-03823D04B2D6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7200" y="1557360"/>
            <a:ext cx="9766440" cy="103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2: Предимство на превозните средства за МГОТ  на кръстовищат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3400" y="3382560"/>
            <a:ext cx="3537000" cy="3335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всички 27 светлинно-регулирани кръстовищата по BRT коридора посредством автоматизирано управление светофарните уредб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Предлаганото местоположение е представено на картата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187880" y="3543480"/>
            <a:ext cx="6505560" cy="35067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293760" y="2828880"/>
            <a:ext cx="1010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 fontScale="85000"/>
          </a:bodyPr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Компонентът включва проектиране, доставка и инсталиране на оборудване за система за осигуряване предимство на превозните средства на МГОТ н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0E12BB6-4D9C-4CC4-A1A1-B7F661FB0D80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1880" y="1319040"/>
            <a:ext cx="9624960" cy="126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 : Система за информация на пътниците в реално врем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477720" y="2747880"/>
            <a:ext cx="966816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marL="511200" indent="-511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Компонентът включва проектиране, доставка и инсталиране на оборудване за система за информация на пътниците в реално време със следните моду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 algn="just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500" spc="-1" strike="noStrike">
                <a:solidFill>
                  <a:srgbClr val="3c6400"/>
                </a:solidFill>
                <a:latin typeface="Sylfaen"/>
              </a:rPr>
              <a:t>Информационни табла на спирките:</a:t>
            </a:r>
            <a:r>
              <a:rPr b="0" lang="ru-RU" sz="2500" spc="-1" strike="noStrike">
                <a:solidFill>
                  <a:srgbClr val="000000"/>
                </a:solidFill>
                <a:latin typeface="Sylfaen"/>
              </a:rPr>
              <a:t> Предвижда се закупуването на 3-редови информационни табла (по едно за всяка BRT спирка, както и на спирките на 12 допълнителни стратегически места общо 84 бр.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 algn="just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500" spc="-1" strike="noStrike">
                <a:solidFill>
                  <a:srgbClr val="3c6400"/>
                </a:solidFill>
                <a:latin typeface="Sylfaen"/>
              </a:rPr>
              <a:t>Електронни информационни табла за пътниците в превозните средства (ПС).</a:t>
            </a:r>
            <a:r>
              <a:rPr b="0" lang="ru-RU" sz="2500" spc="-1" strike="noStrike">
                <a:solidFill>
                  <a:srgbClr val="000000"/>
                </a:solidFill>
                <a:latin typeface="Sylfaen"/>
              </a:rPr>
              <a:t> Всяко ПС на BRT ще бъде оборудвано с по 2 едноредови панела, на които ще се изписва информация за пътниците (номер на линията, направление, име на следващата спирка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8149F43-C2A6-44E9-A31C-582DBD06723C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1880" y="1479600"/>
            <a:ext cx="9624960" cy="103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4: Център за управление на МГО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1880" y="2590560"/>
            <a:ext cx="9624960" cy="4524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3000"/>
          </a:bodyPr>
          <a:p>
            <a:pPr marL="38232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ylfaen"/>
              </a:rPr>
              <a:t>Компонентът включва закупуване н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320" indent="-382320" algn="just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500" spc="-1" strike="noStrike">
                <a:solidFill>
                  <a:srgbClr val="3c6400"/>
                </a:solidFill>
                <a:latin typeface="Sylfaen"/>
              </a:rPr>
              <a:t>софтуер за автоматична локализация на превозните средст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320" indent="-382320" algn="just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500" spc="-1" strike="noStrike">
                <a:solidFill>
                  <a:srgbClr val="3c6400"/>
                </a:solidFill>
                <a:latin typeface="Sylfaen"/>
              </a:rPr>
              <a:t>доставка и монтаж на съответния хардуе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32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32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ylfaen"/>
              </a:rPr>
              <a:t>Центърът за управление има две основни цел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320" indent="-382320" algn="just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Sylfaen"/>
              </a:rPr>
              <a:t>Служи за изчисляване на времето за пристигане на превозните средства до спирките и пренася данните до съответните терминали (спирки, онлайн и мобилни информационни приложения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320" indent="-382320" algn="just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Sylfaen"/>
              </a:rPr>
              <a:t>Управлява автобусния парк като контролира местоположенията на ПС, изпълнява диспечерски функции, регистрира закъсненията и води статистика за експлоатацият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CC27BF9-B575-4FE1-A7A3-A1BBB741418F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7560" y="1240920"/>
            <a:ext cx="9623520" cy="79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marL="390600"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5: </a:t>
            </a: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BRT</a:t>
            </a:r>
            <a:r>
              <a:rPr b="1" i="1" lang="bg-BG" sz="3400" spc="-1" strike="noStrike" u="sng">
                <a:solidFill>
                  <a:srgbClr val="000000"/>
                </a:solidFill>
                <a:uFillTx/>
                <a:latin typeface="Sylfaen"/>
              </a:rPr>
              <a:t> коридо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1880" y="3620880"/>
            <a:ext cx="4424400" cy="1509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lvl="1" marL="511200" indent="-306360" algn="just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3c6400"/>
                </a:solidFill>
                <a:latin typeface="Sylfaen"/>
              </a:rPr>
              <a:t>Вариант А</a:t>
            </a: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 - дължина 14.85 км, изграждане на 28 спирки плюс 2 край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06360" algn="just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3c6400"/>
                </a:solidFill>
                <a:latin typeface="Sylfaen"/>
              </a:rPr>
              <a:t>Вариант Б</a:t>
            </a: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 - дължина 14.60 км, изграждане на 29 спирки плюс 2 край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5146560" y="3463920"/>
            <a:ext cx="5546880" cy="29876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461880" y="2112840"/>
            <a:ext cx="99378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 fontScale="93000"/>
          </a:bodyPr>
          <a:p>
            <a:pPr lvl="1" marL="1904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Компонентът включва проектиране и изграждане на </a:t>
            </a:r>
            <a:r>
              <a:rPr b="0" lang="en-US" sz="2100" spc="-1" strike="noStrike">
                <a:solidFill>
                  <a:srgbClr val="000000"/>
                </a:solidFill>
                <a:latin typeface="Sylfaen"/>
              </a:rPr>
              <a:t>BRT </a:t>
            </a:r>
            <a:r>
              <a:rPr b="0" lang="bg-BG" sz="2100" spc="-1" strike="noStrike">
                <a:solidFill>
                  <a:srgbClr val="000000"/>
                </a:solidFill>
                <a:latin typeface="Sylfaen"/>
              </a:rPr>
              <a:t>коридор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500" spc="-1" strike="noStrike">
                <a:solidFill>
                  <a:srgbClr val="3c6400"/>
                </a:solidFill>
                <a:latin typeface="Sylfaen"/>
              </a:rPr>
              <a:t>Коридор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100" spc="-1" strike="noStrike">
                <a:solidFill>
                  <a:srgbClr val="000000"/>
                </a:solidFill>
                <a:latin typeface="Sylfaen"/>
              </a:rPr>
              <a:t>„Владиславово – Център – Бриз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500" spc="-1" strike="noStrike">
                <a:solidFill>
                  <a:srgbClr val="3c6400"/>
                </a:solidFill>
                <a:latin typeface="Sylfaen"/>
              </a:rPr>
              <a:t>Трасе</a:t>
            </a: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2 под-варианта (представени на картата) в участъка между бул. „Янош Хунияди“ и ул. „Христо Смирненски“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31800" y="5208480"/>
            <a:ext cx="4422960" cy="21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 lvl="1" marL="2048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Анализ на техническите характеристики на трасетата и избор на един от вариантите ще бъде извършен в етапа на изготвянето на техническия проект за цялото BRT тра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81C5200-4699-4C88-B688-60DA29D6CC76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7560" y="1398240"/>
            <a:ext cx="9623520" cy="87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6: Подвижен съста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82720" y="2352240"/>
            <a:ext cx="8856720" cy="4475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8000"/>
          </a:bodyPr>
          <a:p>
            <a:pPr marL="600120" indent="-60012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30 съчленени автобуси с дизелови двигатели, емисионен клас ЕВРО 6, които да обслужват BRT корид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20 единични автобуси с дизелови двигатели, емисионен клас ЕВРО 6, които ще обслужват редовните градски линии на МГ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20 единични автобуси с двигатели на сгъстен природен газ (СПГ) – също за редовните градски линии на МГ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9T08:03:51Z</dcterms:created>
  <dc:creator>VVasileva</dc:creator>
  <dc:description/>
  <dc:language>en-US</dc:language>
  <cp:lastModifiedBy>PetrusenkoR</cp:lastModifiedBy>
  <dcterms:modified xsi:type="dcterms:W3CDTF">2012-08-17T13:06:42Z</dcterms:modified>
  <cp:revision>108</cp:revision>
  <dc:subject/>
  <dc:title>Varna IUTP</dc:title>
</cp:coreProperties>
</file>