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B820-8008-45DC-92F8-B71809CCE03C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E578-E5ED-421C-ACC6-9B5620C8E24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57F1-0BEC-4E7D-BB10-50EB74EB1B9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1CE4-826B-443D-B697-BD0F1AD3B13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C74A-BBBD-46B0-AA01-665764E120E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2964-A488-47C0-A3E1-FA864926015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01EB-BD72-41A7-9FBB-360B6ADDD34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57D9-61DE-4E22-A420-8209114CFC4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2A3D-1D2C-40AC-A576-1AEAB5DD897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2EC-0371-4D76-AD13-78E43ED8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7BD-5791-40B4-9059-E31395AE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4A7-A5BA-41CD-B0E5-CF2799B1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C91-27A1-4C81-BA65-04032570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0A9A-EF64-4D4B-8F3E-75597583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A0FD-EBB3-45F6-9349-A5608E24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F49E-B1CD-4F9E-B5D8-2F762623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61E6-A5E7-444E-AB35-B57C1EFF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4BCD-78DA-4EB4-A55E-F7102FD2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AD5D-B332-40A4-9B40-DB7515AF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14B0-B9D5-42CA-873F-0788BB07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6C4-B06F-4771-98AC-F68934C1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C8A2-117E-4F3C-9A92-7C436479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EE69-03C5-44B7-871E-DDAF6B4C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5D78-7673-4ADE-B0DE-BF9C43EF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2364-7E44-4B11-83CB-228EBFDC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52D6-DA43-46FC-BE21-D2212A22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6CF-157E-4C81-8411-DD77EEC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67D-57E4-4E8E-980F-F974CE15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08D-B55B-40F1-B386-96F1F3ED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B22-D592-4A55-B161-2C947479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E41-CD2B-48F4-A43D-BD434788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81A-5F45-4779-AB37-D8668622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663-90E8-4FBF-B886-C676592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98D0-DC30-49A9-A991-BDA056F58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Logo NSRF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72AB-B38C-4390-8BE4-1ADC8F3E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solidFill>
            <a:srgbClr val="00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0" y="1052640"/>
            <a:ext cx="9144000" cy="7272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0" descr="Logo NSRF"/>
          <p:cNvPicPr/>
          <p:nvPr/>
        </p:nvPicPr>
        <p:blipFill>
          <a:blip r:embed="rId1"/>
          <a:stretch/>
        </p:blipFill>
        <p:spPr>
          <a:xfrm>
            <a:off x="0" y="1125360"/>
            <a:ext cx="4932360" cy="5399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8000" y="1267920"/>
            <a:ext cx="36702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 за определяне на финансови корекции, които да се прилагат спрямо разходите, свързани с изпълнението на оперативните програми, съфинансирани от структурните инструменти на ЕС, Европейския земеделски фонд за развитие на селските райони и Европейския фонд за рибарств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рушения, договарящите органи предприемат незабавни действия за намаляване размера на безвъзмездната финансова помощ, съответно събират на неправомерно изразходваните/изплатени суми по догов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мите подлежащи на възстановяване следва да бъдат равни по размер на установените финансови загуби, а в случаите, когато те не могат да бъдат точно установени -  да бъдат съобразени с препоръчителните размери на финансовите корекции посочени в приложения № 2 и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висимост от характера и сериозността на нарушенията, договарящите органи обосновано могат да прилагат размери на финансовите корекции, различни от препоръчителните размери, определени в приложе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сочените в  приложение № 2 и приложение № 3 нарушения са примерни и с тях не се ограничават случаите на нередности, за които се прилага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установен случай на нередност не е обхванат в приложенията, се използва процентният показател, предвиден за най-близките по вид категория и нар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 се налагат финансови корекции за нередности, които могат да бъдат закрити чрез прекратяване на процедура за обществена поръчка, по която не е извършено плащане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ана н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оговарящия ор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онстатирани два или повече нарушения от един бенефициент в рамките на една процедура/договор за възлагане на поръчка/избор на изпълнител, за които предвидените процентни показатели са различни, се налага една финансова корекция при определянето на която се прилага най-високият процентен показател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9640" y="1268280"/>
            <a:ext cx="7704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правляващите органи разработват и утвърждават писмени правила за налагане на финансови корекции за отделните програми, които се публикуват на техните интернет страници и на Единния информационен пор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предвиждат съответните клаузи в договорите с бенефициентите съобразно методологията и писмените правила за отделните прог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9640" y="1125360"/>
            <a:ext cx="7488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случаите на установени нередности преди изплащане на безвъзмездна финансова помо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говарящият орган уведомява бенефициента за нарушението, за което предстои да бъде редуцирана/отказана БФП и посочва размера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10 работни дни от датата на получаване на уведомлението, бенефициентът може да мотивира искане да не се редуцира/откаже БФП или да се намали размера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 5 работни дни от получаването на искането, договарящият орган мотивира неговото приемане или отхвърля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риемане -  договарящият орган не предприема действия по налагане на финансова корекция или коригира нейния раз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хвърляне -  договарящият орган пристъпва към намаляване на размера на безвъзмездна финансова помощ със стойността на финансовата кор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9640" y="1125360"/>
            <a:ext cx="748836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случаите на установени нередности след изплащане на безвъзмездна финансова помо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говарящият орган уведомява бенефициента за нарушението, за което предстои да бъде наложена финансова корекция и посочва нейния 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10 работни дни от датата на получаване на уведомлението, бенефициентът може да мотивира искане да не се налага финансова корекция или да се намали нейния 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 5 работни дни от получаването на искането, договарящият орган писмено мотивира неговото приемане или отхвърля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риемане -  договарящият орган не налага финансова корекция или коригира нейния раз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хвърляне -  договарящият орган пристъпва към налагане на финансова корекция като: (1) прихваща дължимите суми от следващи плащания или (2) упражнява правата си по учредени/издадени от бенефициента обезпечения по договора за безвъзмездна финансова помощ или (3) изпраща покана за доброволно плащане на задълже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0866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е приета с ПМС № 134/05.07.2010г. и е изготвена в съответствие с Насоките на ЕК за определяне на финансовите корекции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ледва да се прилагат спрямо разходите, съфинансирани от Структурните фондове и Кохезионния фонд при неспазване на правилата относно обществените поръчк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O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7/0037/03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Целта на финансовите корекции е да се възстанови ситуацията, при която 100% от разходите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добрени за съфинансиране от структурните инструменти на ЕС, Европейския земеделски фонд за развитие на селските райони и Европейския фонд за рибарство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са в съответствие с приложимото национално законодателство и общностното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налагането на финансови корекции се цел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подобряване на управлението на проектит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ъфинансирани в рамките на съответните оперативни програми и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ъзстановяване на неправомерно изразходваните су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лагането на финансови корекции им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евантивно действ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 цели намаляване случаите на не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учаите, в които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ната-членка сама налага финансови корекции, възстановените средства се връщат в бюджета на оперативните програми и могат да се използват повторно по пред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рекциите се налагат от ЕК, то средствата се губя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страната-чл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се прилага спрямо договорит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за безвъзмездна финансова помощ,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ключени след влизането в сила на постановле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 методологията се установяват общите принципи за определянето на финансовите корекции, които се прилагат при констатирани нередности, свързани с процедурите п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ъзлагане на обществени поръчк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о проекти, съфинансирани със средства от Структурните фондове, Кохезионния фонд на ЕС,  Европейския земеделски фонд за развитие на селските райони и Европейски фонд за рибарство за програмния период 2007 - 2013 г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пределяне на изпълнител от страна на бенефициенти на договорена безвъзмездна финансова помощ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т Структурните фондове на ЕС, Програма ФАР на ЕС и от Финансовия механизъм на Европейското икономическо пространство – за случаите, когато бенефициентът не се явява възложител на обществена поръ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за финансови корекции се прилага 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по чл. 2 от ПМС № 121/200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на Програмата за развитие на селските райони за периода 2007 – 2013 г. и Оперативната програма за развитие на сектор „Рибарство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дитните органи по оперативните програми, съфинансирани от Структурните инструменти на ЕС, Европейския земеделски фонд за развитие на селските райони и Европейския фонд за риб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9640" y="1484280"/>
            <a:ext cx="770436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определяне на размера на финансовите корекции се отчи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ът и сериозността на нередност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4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ите загуби на публични средства, до които е довело неспазването на националното законодателство и общностното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мерът на финансовите корекции трябва да отговаря на размера на финансова загуба на публичните средст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в това число и от фондовете на 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мерът на финансовата корекция се определя чре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рилагане н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иференциален или пропорционален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7212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1280" y="1125360"/>
            <a:ext cx="820872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иференциален мето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финансовата коре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рилагане на диференциалния мет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мерът на финансовата корекция е равен на установения размер на финансовата заг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пределен на базата на анализ на нарушенията на процедурата по възлагане на обществена поръчка или процедурата за определяне на изпълнител от страна на бенефициенти на договорена безвъзмездна финансова помо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загуба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е съпоставят размерът на договорените/изразходваните средства по договора след възникване на нарушението и хипотетичният размер на разходите в ситуация, в която не е имало нар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7212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11280" y="1125360"/>
            <a:ext cx="820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ен метод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финансовата корекция се прилага за отделни случаи на установени нередности, при които не може да бъде използван диференциалния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ормула за изчисляване на размерът на финансовата корекция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 = Пк x С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ъде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размер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к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процентен показател на финансовата коре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д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стойността на сключения догов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сновните категории нередности, произтичащи от нарушения на националното законодателство в областта на обществените поръчки (ЗОП, НВМОП) са посочени препоръчителни размери на финансовите корекции в приложение № 2 към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сновните категории нередности, свързани с процедурите по определяне на изпълнител от страна на бенефициенти на договорена безвъзмездна финансова помощ по ПМС № 55 са посочени препоръчителни размери на финансовите корекции в приложение № 3 към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ато проведената процедура за определяне на изпълнител е под стойностните прагове, определени в Директива 2004/17/ЕО и Директива 2004/18/ЕО, следва да бъде приложена финансова корекция в размер на 50% от посочения препоръчителен размер за съответната категория нередност в приложение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28:34Z</dcterms:created>
  <dc:creator>Milena Pehlivanova</dc:creator>
  <dc:description/>
  <dc:language>en-US</dc:language>
  <cp:lastModifiedBy>k.hitrova</cp:lastModifiedBy>
  <dcterms:modified xsi:type="dcterms:W3CDTF">2010-07-19T06:35:09Z</dcterms:modified>
  <cp:revision>166</cp:revision>
  <dc:subject/>
  <dc:title>НАЦИОНАЛНА СТРАТЕГИЧЕСКА РЕФЕРЕНТНА РАМКА </dc:title>
</cp:coreProperties>
</file>