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8AFE-7851-4DD3-B807-9AF7865EFD87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E63-A5A3-4DBE-B2E2-5D2D860B58A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DC0E-2DA3-4225-88FE-86BEC4A6AC46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8F30-52EE-41CA-A851-C4ADEC240CED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813F-26A5-4F22-A289-7B9DECC2353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2DC7-1A2D-4477-94D8-526C1E9B1CB1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6049-4364-447D-96A2-D84348A959C4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5E29-BCE0-463D-8C7A-672BCAEFBA7B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3207-185E-405C-82D1-5EB8953D53D3}" type="slidenum">
              <a:rPr b="0" lang="bg-B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8E3-0F73-40B0-AFEC-758B188C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7D0-099A-4077-92B8-4A6A7A46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CBE-945B-43E6-AE64-3E548C2F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D0DD-7C1B-4737-AED1-7BCFE1F8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298D-3578-4DB5-A154-8473B507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5A5E-BB3E-4991-AA85-5CB81760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8162-47FC-4CDE-89E4-65260CA4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E70C-8A96-44A3-B6EB-98D0C036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33C5-C011-4211-905F-F88C2E91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89E6-BAC5-4EB9-976E-D7AAD329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E995-228F-4CA9-926F-39129C14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EFCA-7079-4943-8180-60FA4265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4867-88F8-4F80-9109-3047E67D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4FBE-5A6B-4C88-903D-5CC4CAC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58E8-1876-40B6-9A59-F2B492F3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7F86-08EE-4176-BA31-ADCE845B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508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32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836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508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32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1784-B75A-4BE9-A3D0-A8F8BA57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177-ECD7-4382-B0CC-F27CC6A2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4F8-C2CA-4662-B6A0-FE1D028C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DCA-3E72-41F6-8D57-51AA3EDA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8000" y="58320"/>
            <a:ext cx="728352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24C-5E38-4B6C-9D49-CF626602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0B1-0969-4D55-A456-4E83B7D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D52-F22E-4751-85F2-BEAFCA96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9A5-151A-48CF-97CE-CE087229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701C-643E-4373-82FB-0CDCF7815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00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2" descr="Logo NSRF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88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MF-logo-bjalo"/>
          <p:cNvPicPr/>
          <p:nvPr/>
        </p:nvPicPr>
        <p:blipFill>
          <a:blip r:embed="rId2"/>
          <a:stretch/>
        </p:blipFill>
        <p:spPr>
          <a:xfrm>
            <a:off x="250920" y="5996160"/>
            <a:ext cx="863640" cy="861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1"/>
          <p:cNvSpPr/>
          <p:nvPr/>
        </p:nvSpPr>
        <p:spPr>
          <a:xfrm>
            <a:off x="539640" y="5734080"/>
            <a:ext cx="33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нистерство на финанс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319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B3F6-B659-45D7-B20B-E65CAF5D6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solidFill>
            <a:srgbClr val="0000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0" y="6568920"/>
            <a:ext cx="9144000" cy="289080"/>
          </a:xfrm>
          <a:prstGeom prst="rect">
            <a:avLst/>
          </a:prstGeom>
          <a:solidFill>
            <a:srgbClr val="000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0" y="1052640"/>
            <a:ext cx="9144000" cy="7272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6524640"/>
            <a:ext cx="9144000" cy="73080"/>
          </a:xfrm>
          <a:prstGeom prst="rect">
            <a:avLst/>
          </a:prstGeom>
          <a:solidFill>
            <a:srgbClr val="ffd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0" descr="Logo NSRF"/>
          <p:cNvPicPr/>
          <p:nvPr/>
        </p:nvPicPr>
        <p:blipFill>
          <a:blip r:embed="rId1"/>
          <a:stretch/>
        </p:blipFill>
        <p:spPr>
          <a:xfrm>
            <a:off x="0" y="1125360"/>
            <a:ext cx="4932360" cy="5399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8000" y="1267920"/>
            <a:ext cx="36702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 за определяне на финансови корекции, които да се прилагат спрямо разходите, свързани с изпълнението на оперативните програми, съфинансирани от структурните инструменти на ЕС, Европейския земеделски фонд за развитие на селските райони и Европейския фонд за рибарств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нарушения, договарящите органи предприемат незабавни действия за намаляване размера на безвъзмездната финансова помощ, съответно събират на неправомерно изразходваните/изплатени суми по догов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мите подлежащи на възстановяване следва да бъдат равни по размер на установените финансови загуби, а в случаите, когато те не могат да бъдат точно установени -  да бъдат съобразени с препоръчителните размери на финансовите корекции посочени в приложения № 2 и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зависимост от характера и сериозността на нарушенията, договарящите органи обосновано могат да прилагат размери на финансовите корекции, различни от препоръчителните размери, определени в приложен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сочените в  приложение № 2 и приложение № 3 нарушения са примерни и с тях не се ограничават случаите на нередности, за които се прилага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установен случай на нередност не е обхванат в приложенията, се използва процентният показател, предвиден за най-близките по вид категория и 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 се налагат финансови корекции за нередности, които могат да бъдат закрити чрез прекратяване на процедура за обществена поръчка, по която не е извършено плащане 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ана н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договарящия орг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констатирани два или повече нарушения от един бенефициент в рамките на една процедура/договор за възлагане на поръчка/избор на изпълнител, за които предвидените процентни показатели са различни, се налага една финансова корекция при определянето на която се прилага най-високият процентен показател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9640" y="1268280"/>
            <a:ext cx="7704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правляващите органи разработват и утвърждават писмени правила за налагане на финансови корекции за отделните програми, които се публикуват на техните интернет страници и на Единния информационен пор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предвиждат съответните клаузи в договорите с бенефициентите съобразно методологията и писмените правила за отделните прог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9640" y="1125360"/>
            <a:ext cx="7488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случаите на установени нередности преди изплащане на безвъзмездна финансова помо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арящият орган уведомява бенефициента за нарушението, за което предстои да бъде редуцирана/отказана БФП и посочва размера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10 работни дни от датата на получаване на уведомлението, бенефициентът може да мотивира искане да не се редуцира/откаже БФП или да се намали размера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 5 работни дни от получаването на искането, договарящият орган мотивира неговото приемане или отхвърля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риемане -  договарящият орган не предприема действия по налагане на финансова корекция или коригира нейния раз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хвърляне -  договарящият орган пристъпва към намаляване на размера на безвъзмездна финансова помощ със стойността на финансовата кор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39640" y="1125360"/>
            <a:ext cx="748836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 случаите на установени нередности след изплащане на безвъзмездна финансова помощ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говарящият орган уведомява бенефициента за нарушението, за което предстои да бъде наложена финансова корекция и посочва нейния 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10 работни дни от датата на получаване на уведомлението, бенефициентът може да мотивира искане да не се налага финансова корекция или да се намали нейния 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рок  5 работни дни от получаването на искането, договарящият орган писмено мотивира неговото приемане или отхвърля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приемане -  договарящият орган не налага финансова корекция или коригира нейния разм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отхвърляне -  договарящият орган пристъпва към налагане на финансова корекция като: (1) прихваща дължимите суми от следващи плащания или (2) упражнява правата си по учредени/издадени от бенефициента обезпечения по договора за безвъзмездна финансова помощ или (3) изпраща покана за доброволно плащане на задължение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80866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е приета с ПМС № 134/05.07.2010г. и е изготвена в съответствие с Насоките на ЕК за определяне на финансовите корекции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ито следва да се прилагат спрямо разходите, съфинансирани от Структурните фондове и Кохезионния фонд при неспазване на правилата относно обществените поръчк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CO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7/0037/03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Целта на финансовите корекции е да се възстанови ситуацията, при която 100% от разходите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добрени за съфинансиране от структурните инструменти на ЕС, Европейския земеделски фонд за развитие на селските райони и Европейския фонд за рибарство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са в съответствие с приложимото национално законодателство и общностното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налагането на финансови корекции се цели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подобряване на управлението на проект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съфинансирани в рамките на съответните оперативни програми и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становяване на неправомерно изразходваните су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лагането на финансови корекции им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ревантивно действи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и цели намаляване случаите на нере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случаите, в които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траната-членка сама налага финансови корекции, възстановените средства се връщат в бюджета на оперативните програми и могат да се използват повторно по пред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орекциите се налагат от ЕК, то средствата се губят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 страната-чл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се прилага спрямо договорите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за безвъзмездна финансова помощ,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ключени след влизането в сила на постановление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 методологията се установяват общите принципи за определянето на финансовите корекции, които се прилагат при констатирани нередности, свързани с процедурите п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възлагане на обществени поръчк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о проекти, съфинансирани със средства от Структурните фондове, Кохезионния фонд на ЕС,  Европейския земеделски фонд за развитие на селските райони и Европейски фонд за рибарство за програмния период 2007 - 2013 г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определяне на изпълнител от страна на бенефициенти на договорена безвъзмездна финансова помощ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т Структурните фондове на ЕС, Програма ФАР на ЕС и от Финансовия механизъм на Европейското икономическо пространство – за случаите, когато бенефициентът не се явява възложител на обществена поръ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632720" cy="4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052640"/>
            <a:ext cx="80139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ологията за финансови корекции се прилага о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по чл. 2 от ПМС № 121/2007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Договарящите органи на Програмата за развитие на селските райони за периода 2007 – 2013 г. и Оперативната програма за развитие на сектор „Рибарство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5c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дитните органи по оперативните програми, съфинансирани от Структурните инструменти на ЕС, Европейския земеделски фонд за развитие на селските райони и Европейския фонд за риб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70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9640" y="1484280"/>
            <a:ext cx="770436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 определяне на размера на финансовите корекции се отчита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ът и сериозността на нередност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24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2b479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ите загуби на публични средства, до които е довело неспазването на националното законодателство и общностното 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мерът на финансовите корекции трябва да отговаря на размера на финансова загуба на публичните средств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в това число и от фондовете на 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Размерът на финансовата корекция се определя чрез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прилагане на 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диференциален или пропорционален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7212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1280" y="1125360"/>
            <a:ext cx="820872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иференциален мето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финансовата корек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рилагане на диференциалния мет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мерът на финансовата корекция е равен на установения размер на финансовата заг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определен на базата на анализ на нарушенията на процедурата по възлагане на обществена поръчка или процедурата за определяне на изпълнител от страна на бенефициенти на договорена безвъзмездна финансова помо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загубат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е съпоставят размерът на договорените/изразходваните средства по договора след възникване на нарушението и хипотетичният размер на разходите в ситуация, в която не е имало нару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7212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08200" y="327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11280" y="1125360"/>
            <a:ext cx="820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 u="sng">
                <a:solidFill>
                  <a:srgbClr val="000000"/>
                </a:solidFill>
                <a:uFillTx/>
                <a:latin typeface="Arial"/>
              </a:rPr>
              <a:t>Пропорционален метод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пределяне на размера на финансовата корекция се прилага за отделни случаи на установени нередности, при които не може да бъде използван диференциалния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Формула за изчисляване на размерът на финансовата корекция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 = Пк x С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де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размер на финансовата кор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Пк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процентен показател на финансовата корек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д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– стойността на сключения догов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58320"/>
            <a:ext cx="7283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одология за определяне на финансови корекц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сновните категории нередности, произтичащи от нарушения на националното законодателство в областта на обществените поръчки (ЗОП, НВМОП) са посочени препоръчителни размери на финансовите корекции в приложение № 2 към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150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сновните категории нередности, свързани с процедурите по определяне на изпълнител от страна на бенефициенти на договорена безвъзмездна финансова помощ по ПМС № 55 са посочени препоръчителни размери на финансовите корекции в приложение № 3 към методологи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ато проведената процедура за определяне на изпълнител е под стойностните прагове, определени в Директива 2004/17/ЕО и Директива 2004/18/ЕО, следва да бъде приложена финансова корекция в размер на 50% от посочения препоръчителен размер за съответната категория нередност в приложение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5:28:34Z</dcterms:created>
  <dc:creator>Milena Pehlivanova</dc:creator>
  <dc:description/>
  <dc:language>en-US</dc:language>
  <cp:lastModifiedBy>k.hitrova</cp:lastModifiedBy>
  <dcterms:modified xsi:type="dcterms:W3CDTF">2010-07-19T06:35:09Z</dcterms:modified>
  <cp:revision>166</cp:revision>
  <dc:subject/>
  <dc:title>НАЦИОНАЛНА СТРАТЕГИЧЕСКА РЕФЕРЕНТНА РАМКА </dc:title>
</cp:coreProperties>
</file>